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8118-7D0B-41D2-9868-13B20B4500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4C4C-C277-48B1-B257-8A488E779B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E217-0723-4F5F-889F-742715C880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327-0493-4FBB-B391-93D3438F0D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9CB1-F4CA-4099-B300-B859099C63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D673-328A-48BD-8ADF-C64318CB6A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D45A-91EE-48F2-AC29-B2205B275A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6FF0-0AE9-4041-A72A-C3956E5588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691F-0397-4A67-95B4-AF93B1831B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3926-FEBA-4297-B30A-9D2A5FE539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CAF0-7669-4812-B926-C6CAA652F3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EF7B-DB34-40B2-A42B-CC3CF79911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002E-2B41-4CB7-8AB0-6F1E7E0A5A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968E-4C7B-4468-A7BA-5238C59193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3585-4917-4F6C-9C04-A7BBE3636F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C8A-C354-401D-A82E-8F077CAC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736-CF6C-446A-B2F5-04892541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298-450E-46D7-840E-1ED13342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C14-F515-4C63-801B-4D9AA086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80ED-5B3D-4ED8-A9C5-0CFA902E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58B1-69EC-4845-9E27-0B9266EE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1230-32C8-4FA8-8760-1AC2B2FE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443F-9769-46E7-8435-D1B8D7E5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A4C5-4819-45F4-9C3B-E5F6F22A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C05F-E71B-416E-AA23-CCC234F2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0EF1-9F9D-4228-BA24-B978F6A9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408-1A0B-475F-99D1-048D2282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A0B5-0444-4B10-997D-A837C982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8B8E-1970-47F7-A2C5-3B513261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8DA-7291-4A2E-8103-2078A9A6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FAF7-6154-4B5E-8138-068AEB29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29EB-A3E8-4D78-AAD7-4368592B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01B-E50A-44A1-B2DC-6A6E55C0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F4E-71D8-483F-9443-301B27C8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18B-7750-406B-A825-9F7D6B6C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767-CD93-4C11-BCC7-42CE3513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23B-CBAF-40B8-99F2-488BB2F6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8A1-518A-4830-8236-A0F47A0A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EE6-A577-47A1-8018-5D294F9E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031C-5651-4C5D-ACB6-4D6613E8B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403C-2FBA-4EEF-BD65-ADAAE93AB5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nalog-nalog.ru/comments/58788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89080" y="260280"/>
            <a:ext cx="8600760" cy="6450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52600" y="1646280"/>
            <a:ext cx="809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  <a:ea typeface="Arial"/>
              </a:rPr>
              <a:t>«БЫВШИЕ» ШН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  <a:ea typeface="Arial"/>
              </a:rPr>
              <a:t>Использование ресурса для организации работы на уровне муниципал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500720" y="4508640"/>
            <a:ext cx="4119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аврили Светлана Алексеевн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ведущий аналитик от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ценки качества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 методического обесп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ahoma"/>
                <a:ea typeface="Tahoma"/>
              </a:rPr>
              <a:t>ПРИНЦИПЫ ВЗАИМОДЕЙСТВИЯ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Tahoma"/>
                <a:ea typeface="Tahoma"/>
              </a:rPr>
              <a:t>МЕЖДУ ОРГАНИЗАЦИЯМИ-ПАРТНЕРАМИ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268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равноправие участ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взаимное уваж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заинтересованность в результатах (сотрудничество базируется на умении «принимать» и «отдавать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свобода обсуждения интересующих вопросов (есть условия для полноценного и конструктивного взаимодействия, мониторинга и контрол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обровольность принятия на себя обязательств (при сотрудничестве все полномочия распределены равномерно, направлены на полноценное функционирование всех учреждений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ответственность (ответственность не перекладывается на другие образовательные учрежде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*Социальное партнерство в сфере образования – виды,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nalog-nalog.ru/comments/58788/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Межшкольное партнерство помогает направлять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ресурсы на развитие совместной деятельности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268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Какой вклад в сотрудничество могут внести      ШНО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Какова мотивация «БЫВШИХ» и школ, которые не  попадали в перечень ШНО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995640" y="3662280"/>
            <a:ext cx="49723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!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ОРГАНИЗАЦИЯ (АДАПТАЦИЯ) ВЗАИМОДЕЙСТВИЯ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МЕЖДУ ШКОЛАМИ МУНИЦИПАЛИТЕТА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с учетом предложенной классификации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ЦЕЛЬ - ПОВЫШЕНИЕ КАЧЕСТВА ОБРАЗОВАНИЯ, в т.ч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профилактика школьной неуспеш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адресная поддержка ШН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3995640" y="3860640"/>
            <a:ext cx="4808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ahoma"/>
                <a:ea typeface="Tahoma"/>
              </a:rPr>
              <a:t>ПРОБЛЕМНЫЕ ВОПРОСЫ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1. Какими ресурсами располагают ШНОР (чем могут поделиться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2. Какова мотивация «БЫВШИХ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3. В чём интерес школ, которые не были в перечне ШНО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! </a:t>
            </a:r>
            <a:r>
              <a:rPr b="0" lang="ru-RU" sz="2400" spc="-1" strike="noStrike">
                <a:solidFill>
                  <a:srgbClr val="10253f"/>
                </a:solidFill>
                <a:latin typeface="Tahoma"/>
                <a:ea typeface="Tahoma"/>
              </a:rPr>
              <a:t>ЗАДАЧА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Определить возможные формы, основания, направления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заимовыгодного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сотрудничества между различными категориями (в классификации ФИОКО) школ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на муниципальном уров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«Больше всего меня радует то, что, получив помощь от меня, люди начинают помогать други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Tahoma"/>
                <a:ea typeface="Tahoma"/>
              </a:rPr>
              <a:t>	</a:t>
            </a:r>
            <a:r>
              <a:rPr b="0" lang="ru-RU" sz="2000" spc="-1" strike="noStrike">
                <a:solidFill>
                  <a:srgbClr val="10253f"/>
                </a:solidFill>
                <a:latin typeface="Tahoma"/>
                <a:ea typeface="Tahoma"/>
              </a:rPr>
              <a:t>	</a:t>
            </a:r>
            <a:r>
              <a:rPr b="0" lang="ru-RU" sz="2000" spc="-1" strike="noStrike">
                <a:solidFill>
                  <a:srgbClr val="10253f"/>
                </a:solidFill>
                <a:latin typeface="Tahoma"/>
                <a:ea typeface="Tahoma"/>
              </a:rPr>
              <a:t>	</a:t>
            </a:r>
            <a:r>
              <a:rPr b="0" lang="ru-RU" sz="2000" spc="-1" strike="noStrike">
                <a:solidFill>
                  <a:srgbClr val="10253f"/>
                </a:solidFill>
                <a:latin typeface="Tahoma"/>
                <a:ea typeface="Tahoma"/>
              </a:rPr>
              <a:t>	</a:t>
            </a:r>
            <a:r>
              <a:rPr b="0" i="1" lang="ru-RU" sz="2000" spc="-1" strike="noStrike">
                <a:solidFill>
                  <a:srgbClr val="10253f"/>
                </a:solidFill>
                <a:latin typeface="Tahoma"/>
                <a:ea typeface="Tahoma"/>
              </a:rPr>
              <a:t>Волонтер проекта «Все прост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«БЫВШИЕ» ШНОР (далее – «БЫВШИЕ») в системе классификации, предложенной ФИО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Наглядное представление относительного количества «БЫВШИХ»</a:t>
            </a:r>
            <a:br>
              <a:rPr sz="2000"/>
            </a:b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и ШНОР в разрезе муниципалитетов и в целом по Р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Как НЕ надо помог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А «БЫВШИМ» это зачем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Иной ракур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Основные принципы партнер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Задача: организация взаимодействия между (всеми!) школами муниципалитета с целью повышения качества образования НА ОСНОВЕ ВЗАИМООБМЕНА РЕСУР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Tahoma"/>
                <a:ea typeface="Tahoma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11280" y="1989000"/>
          <a:ext cx="8229600" cy="2894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083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* МУНИЦИПАЛЬНЫЕ 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Е БЫЛИ В ШН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021-2024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ЫЛИ В ШНОР хотя бы 1 раз в 2021-2023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НОР – 202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6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Е ПОПАЛИ В ШНОР-202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ДОПОЛНИТЕЛЬНАЯ КЛАССИФИКАЦИЯ ШНОР,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!</a:t>
            </a: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ПРОЕКТ, ПРЕДЛОЖЕННЫЙ ФИОК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ahoma"/>
                <a:ea typeface="Tahoma"/>
              </a:rPr>
              <a:t>СООТНОШЕНИЕ «БЫВШИХ» И ШНОР В РАЗРЕЗЕ МУНИЦИПАЛИТЕТОВ И В ЦЕЛОМ ПО Р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Диаграмма 3" descr=""/>
          <p:cNvPicPr/>
          <p:nvPr/>
        </p:nvPicPr>
        <p:blipFill>
          <a:blip r:embed="rId1"/>
          <a:stretch/>
        </p:blipFill>
        <p:spPr>
          <a:xfrm>
            <a:off x="417600" y="1290600"/>
            <a:ext cx="8407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ahoma"/>
                <a:ea typeface="Tahoma"/>
              </a:rPr>
              <a:t>СООТНОШЕНИЕ «БЫВШИХ» И ШНОР В РАЗРЕЗЕ МУНИЦИПАЛИТЕТОВ И В ЦЕЛОМ ПО РК</a:t>
            </a:r>
            <a:r>
              <a:rPr b="0" lang="en-US" sz="2400" spc="-1" strike="noStrike">
                <a:solidFill>
                  <a:srgbClr val="17375e"/>
                </a:solidFill>
                <a:latin typeface="Tahoma"/>
                <a:ea typeface="Tahoma"/>
              </a:rPr>
              <a:t> (</a:t>
            </a:r>
            <a:r>
              <a:rPr b="0" lang="ru-RU" sz="2400" spc="-1" strike="noStrike">
                <a:solidFill>
                  <a:srgbClr val="17375e"/>
                </a:solidFill>
                <a:latin typeface="Tahoma"/>
                <a:ea typeface="Tahoma"/>
              </a:rPr>
              <a:t>сортирова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Диаграмма 4" descr=""/>
          <p:cNvPicPr/>
          <p:nvPr/>
        </p:nvPicPr>
        <p:blipFill>
          <a:blip r:embed="rId1"/>
          <a:stretch/>
        </p:blipFill>
        <p:spPr>
          <a:xfrm>
            <a:off x="417600" y="1506600"/>
            <a:ext cx="8407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11280" y="1844640"/>
          <a:ext cx="8229600" cy="2200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964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 МУНИЦИПАЛЬНЫЕ 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Е БЫЛИ В ШН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021-2024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ЫЛИ В ШНОР хотя бы 1 раз в 2021-2023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НОР – 202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ШКОЛЫ, ТРЕБУЮЩИЕ ВНИ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39640" y="1844640"/>
          <a:ext cx="8229600" cy="32130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2743200"/>
                <a:gridCol w="2743200"/>
              </a:tblGrid>
              <a:tr h="107964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 МУНИЦИПАЛЬНЫЕ 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Е БЫЛИ В ШН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021-2024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ЫЛИ В ШНОР хотя бы 1 раз в 2021-2023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«БЫВШ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ШНОР – 202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ст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едШН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ШКОЛЫ, ТРЕБУЮЩИЕ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ОСОБОГО</a:t>
            </a: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 ВНИМАНИЯ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(школы «зоны риска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РЕСУРС «БЫВШИ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Успешные практики организации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о переходу школы в эффективный реж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«БЫВШИЕ» - потенциальные кураторы, наставники (партнер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«ДОГНАТЬ И ПРИЧИНИТЬ ДОБРО»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(КАК НЕ НАДО ПОМОГА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88640"/>
            <a:ext cx="85485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НЕ помогать без запроса (за исключением экстренных случае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НЕ делать «вместо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НЕ брать ответственность за результаты чужого тру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1:15:27Z</dcterms:created>
  <dc:creator>Олег</dc:creator>
  <dc:description/>
  <dc:language>en-US</dc:language>
  <cp:lastModifiedBy>Пользователь</cp:lastModifiedBy>
  <cp:lastPrinted>2019-12-05T14:43:28Z</cp:lastPrinted>
  <dcterms:modified xsi:type="dcterms:W3CDTF">2025-03-06T07:49:22Z</dcterms:modified>
  <cp:revision>278</cp:revision>
  <dc:subject/>
  <dc:title>Презентация PowerPoint</dc:title>
</cp:coreProperties>
</file>