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871075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53D-A916-49DD-9ACE-849695F9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1BA-D03C-43E4-9922-1A62B85B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DF1-2C84-47D1-9CDE-537EF5E3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464-DE15-4765-8D8A-999B95E3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F802-3405-4DA4-A969-B61688CE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35C0-E843-4709-93D8-8C0A4D4F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ED83-C041-4FAB-BDF0-1494AA56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0099-8CD1-4D88-995F-3551B275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3BDB-37E8-4BDF-9AA7-D14AE221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8B74-768A-4B33-AD5A-E422BEEE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35B6-216A-4F23-8C8E-4767A771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B37-C661-4D49-93EE-D3144F4D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2639-110E-4F13-B1CA-68CDFD83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A298-FE56-4448-9F15-E83F862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A9A4-4240-4A5B-A09C-4D39662A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59A9-F8B6-4A83-AB90-07DBA75A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747B-65FC-40B1-AB5C-53A19D2A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8D8-F5C8-4DE4-8D8F-48627893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E44-9D12-4B1B-9FDB-FB25364E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911-8987-4747-B6AD-C148D410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273-1CA3-4ADC-B983-2E5C9211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28C-5128-465D-BEB1-1CDAAFD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2D0-CF48-497A-913D-A247A01B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53A-A258-4846-A230-9386D459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015A-4EC5-4E60-9168-563D89544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5C39-B426-4D62-815F-A9C034974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лассификация ШНО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1463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Users\user\Desktop\indexнне-Photoroom.png"/>
          <p:cNvPicPr/>
          <p:nvPr/>
        </p:nvPicPr>
        <p:blipFill>
          <a:blip r:embed="rId2"/>
          <a:stretch/>
        </p:blipFill>
        <p:spPr>
          <a:xfrm>
            <a:off x="971640" y="3500280"/>
            <a:ext cx="2708280" cy="2708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24360" y="4941360"/>
            <a:ext cx="4751280" cy="12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Скорик Марина Владимировн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ведущий аналитик отдела оценки каче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образования и методического обеспечения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ГКУ РК «ИМАЦ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Calibri"/>
              </a:rPr>
              <a:t>Перечень «рисковых» школ 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Calibri"/>
              </a:rPr>
              <a:t>разных категорий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364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5720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5720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рцающие/нестабильные»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5720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абильные»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5720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ронические» ШН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697360" y="3429000"/>
            <a:ext cx="32673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390600" y="5868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ритерии попадания ОО                          в разные категории ШНО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557360"/>
          <a:ext cx="8059680" cy="4175280"/>
        </p:xfrm>
        <a:graphic>
          <a:graphicData uri="http://schemas.openxmlformats.org/drawingml/2006/table">
            <a:tbl>
              <a:tblPr/>
              <a:tblGrid>
                <a:gridCol w="3314520"/>
                <a:gridCol w="673200"/>
                <a:gridCol w="380880"/>
                <a:gridCol w="668520"/>
                <a:gridCol w="385560"/>
                <a:gridCol w="1355760"/>
                <a:gridCol w="1281240"/>
              </a:tblGrid>
              <a:tr h="988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НОР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НОР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НОР 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НОР 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первые в ШН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1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ерцающие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табильные» ШН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1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Стабильные» ШН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2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ронические» ШН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ы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«Хронические»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Объект 2" descr=""/>
          <p:cNvPicPr/>
          <p:nvPr/>
        </p:nvPicPr>
        <p:blipFill>
          <a:blip r:embed="rId1"/>
          <a:stretch/>
        </p:blipFill>
        <p:spPr>
          <a:xfrm>
            <a:off x="536400" y="884160"/>
            <a:ext cx="82425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«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Стабильные» ШНОР</a:t>
            </a: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Таблица 1" descr=""/>
          <p:cNvPicPr/>
          <p:nvPr/>
        </p:nvPicPr>
        <p:blipFill>
          <a:blip r:embed="rId1"/>
          <a:stretch/>
        </p:blipFill>
        <p:spPr>
          <a:xfrm>
            <a:off x="463680" y="1407960"/>
            <a:ext cx="81676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цающие/нестабильные» ШН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Таблица 1" descr=""/>
          <p:cNvPicPr/>
          <p:nvPr/>
        </p:nvPicPr>
        <p:blipFill>
          <a:blip r:embed="rId1"/>
          <a:stretch/>
        </p:blipFill>
        <p:spPr>
          <a:xfrm>
            <a:off x="682560" y="1407960"/>
            <a:ext cx="80708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первые в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981000"/>
          <a:ext cx="7705800" cy="5187960"/>
        </p:xfrm>
        <a:graphic>
          <a:graphicData uri="http://schemas.openxmlformats.org/drawingml/2006/table">
            <a:tbl>
              <a:tblPr/>
              <a:tblGrid>
                <a:gridCol w="451080"/>
                <a:gridCol w="2286000"/>
                <a:gridCol w="496872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. Керчи  «Школа № 11 имени Серго Орджоникидз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гор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Ароматнов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ичурин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Цветочненская СШ  имени К.С. Трубенко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Чернополь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анко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«Новокрым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«Стальновская школ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перекоп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Ильинский УВК имени Коробчука А.К.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гор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Чкаловская СОШ имени И.Т.Нерович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ма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Абрикосов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r" pos="4083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школа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ольнен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мовская СОШ  имени кавалера ордена Мужества Дмитрия Лошатецкого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иноградов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Зернов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итяев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ферополь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ироков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мор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раснополянская СШ  имени Мещерякова Ивана Егорович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лассификация ШН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836640"/>
          <a:ext cx="8207280" cy="5845320"/>
        </p:xfrm>
        <a:graphic>
          <a:graphicData uri="http://schemas.openxmlformats.org/drawingml/2006/table">
            <a:tbl>
              <a:tblPr/>
              <a:tblGrid>
                <a:gridCol w="431640"/>
                <a:gridCol w="1800360"/>
                <a:gridCol w="576360"/>
                <a:gridCol w="1008000"/>
                <a:gridCol w="1079280"/>
                <a:gridCol w="1079640"/>
                <a:gridCol w="1081080"/>
                <a:gridCol w="503280"/>
                <a:gridCol w="647640"/>
              </a:tblGrid>
              <a:tr h="163080">
                <a:tc rowSpan="2"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rowSpan="2"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и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О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4"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Н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ШН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цающие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биль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ь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луш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рмя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Джан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56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Евпат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ерч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перекоп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а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56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имферопо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уд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Феодо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257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Ял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хчисарай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гор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анкой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257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гвардей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перекоп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6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ин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гор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май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257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ольнен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6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ферополь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мор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спределение ШНОР </a:t>
            </a:r>
            <a:br>
              <a:rPr sz="4000"/>
            </a:br>
            <a:r>
              <a:rPr b="1" i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 категориям (2024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33148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1:15:27Z</dcterms:created>
  <dc:creator>Олег</dc:creator>
  <dc:description/>
  <dc:language>en-US</dc:language>
  <cp:lastModifiedBy>Любовь Васильевна</cp:lastModifiedBy>
  <cp:lastPrinted>2024-03-14T07:22:55Z</cp:lastPrinted>
  <dcterms:modified xsi:type="dcterms:W3CDTF">2025-03-04T13:18:05Z</dcterms:modified>
  <cp:revision>663</cp:revision>
  <dc:subject/>
  <dc:title>Презентация PowerPoint</dc:title>
</cp:coreProperties>
</file>