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A4C7-3499-4CB4-B444-1BA0542F1A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92C1-1F97-4988-B8DA-3D7D21F08A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FAE8-8554-4308-9CA3-1DEF3D3EDE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4E83-92BA-4BF5-9184-C6E0F66663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5EB7-4C89-4684-AA22-71CFDA8316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45C8-8497-47DD-9EDB-98845B234E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3CBA-758E-4230-AFE3-DBD2C64AF5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D71F-C3AC-47A9-BBF0-5DE9966E5B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C9FD-24F6-4FDD-B203-933F36DC5F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795C-62B6-42F6-9292-8F09A901E6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D161-8580-4641-BE1D-3D82A77275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5861-92BF-45B6-A8B0-8793D47523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9333-0026-4BB1-810C-EDCFF81989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42C8-872F-498B-809E-B9F772B3A0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2BAF-3509-4369-A41F-0D4455344D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6B9A-FBD8-4D67-9DA3-D92B9888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4C2-E3F4-4714-93B4-93642FA0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BA15-5369-431A-A740-9834B2B8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831C-5FD4-47E2-8723-40CC2520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5A12-50CF-48EE-9DD3-33DB2D61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4A65-CE07-4972-B9D4-E65CB972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B5FE-651C-4208-9EA1-6C317537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0EB2-C20B-460E-AFEA-C33B8728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086E-28E3-4842-9BBC-C25946E6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54DB-926D-4B03-B694-E4B62506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26A0-F1EC-46B1-9773-3C21A8A8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B8C-E608-4D69-A0F9-578175CA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8F5B-B035-4153-A954-4B15CBB3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057C-226B-4CEB-AD71-FDB352CB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BFA6-EDF5-4CBC-A40C-3DC51722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F23C-9F0E-4223-A469-B3763E68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C486-0C77-48DE-87B3-7E842385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B9E-B736-40CD-BF1A-C2D14A7F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F59-D7DF-41A0-88CB-6EB63041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A7A-AC82-4E68-B49A-105E102C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5055-0DA1-46B8-9948-AA782F96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BDC-16B5-454B-B446-AEC3E7C6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E81-CDAD-4FA2-99B1-2750C6BB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6AF-73B7-4207-8AEB-13CDB5A0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C881-A2D7-4E05-AFD5-7DB4ED295C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178D-C901-498F-9FF8-74AF9D04FF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nalog-nalog.ru/comments/58788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89080" y="260280"/>
            <a:ext cx="8600760" cy="64501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552600" y="1646280"/>
            <a:ext cx="809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  <a:ea typeface="Arial"/>
              </a:rPr>
              <a:t>«БЫВШИЕ» ШН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  <a:ea typeface="Arial"/>
              </a:rPr>
              <a:t>Использование ресурса для организации работы на уровне муниципалит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4500720" y="4508640"/>
            <a:ext cx="4119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Гаврили Светлана Алексеевна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ведущий аналитик от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ценки качества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и методического обеспе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Tahoma"/>
                <a:ea typeface="Tahoma"/>
              </a:rPr>
              <a:t>ПРИНЦИПЫ ВЗАИМОДЕЙСТВИЯ</a:t>
            </a:r>
            <a:br>
              <a:rPr sz="2400"/>
            </a:br>
            <a:r>
              <a:rPr b="0" lang="ru-RU" sz="2400" spc="-1" strike="noStrike">
                <a:solidFill>
                  <a:srgbClr val="10253f"/>
                </a:solidFill>
                <a:latin typeface="Tahoma"/>
                <a:ea typeface="Tahoma"/>
              </a:rPr>
              <a:t>МЕЖДУ ОРГАНИЗАЦИЯМИ-ПАРТНЕРАМИ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1268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равноправие участ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взаимное уваж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заинтересованность в результатах (сотрудничество базируется на умении «принимать» и «отдавать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свобода обсуждения интересующих вопросов (есть условия для полноценного и конструктивного взаимодействия, мониторинга и контроля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добровольность принятия на себя обязательств (при сотрудничестве все полномочия распределены равномерно, направлены на полноценное функционирование всех учреждений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ответственность (ответственность не перекладывается на другие образовательные учрежден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*Социальное партнерство в сфере образования – виды, задач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nalog-nalog.ru/comments/58788/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Межшкольное партнерство помогает направлять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ресурсы на развитие совместной деятельности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268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?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Какой вклад в сотрудничество могут внести      ШНОР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?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Какова мотивация «БЫВШИХ» и школ, которые не  попадали в перечень ШНОР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995640" y="3662280"/>
            <a:ext cx="49723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! 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ОРГАНИЗАЦИЯ (АДАПТАЦИЯ) ВЗАИМОДЕЙСТВИЯ</a:t>
            </a:r>
            <a:br>
              <a:rPr sz="2400"/>
            </a:b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МЕЖДУ ШКОЛАМИ МУНИЦИПАЛИТЕТА</a:t>
            </a:r>
            <a:br>
              <a:rPr sz="2400"/>
            </a:b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с учетом предложенной классификации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ЦЕЛЬ - ПОВЫШЕНИЕ КАЧЕСТВА ОБРАЗОВАНИЯ, в т.ч.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профилактика школьной неуспеш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адресная поддержка ШН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3995640" y="3860640"/>
            <a:ext cx="48085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Tahoma"/>
                <a:ea typeface="Tahoma"/>
              </a:rPr>
              <a:t>ПРОБЛЕМНЫЕ ВОПРОСЫ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1. Какими ресурсами располагают ШНОР (чем могут поделиться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2. Какова мотивация «БЫВШИХ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3. В чём интерес школ, которые не были в перечне ШНОР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  <a:ea typeface="Tahoma"/>
              </a:rPr>
              <a:t>! </a:t>
            </a:r>
            <a:r>
              <a:rPr b="0" lang="ru-RU" sz="2400" spc="-1" strike="noStrike">
                <a:solidFill>
                  <a:srgbClr val="10253f"/>
                </a:solidFill>
                <a:latin typeface="Tahoma"/>
                <a:ea typeface="Tahoma"/>
              </a:rPr>
              <a:t>ЗАДАЧА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268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Определить возможные формы, основания, направления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взаимовыгодного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 сотрудничества между различными категориями (в классификации ФИОКО) школ</a:t>
            </a:r>
            <a:br>
              <a:rPr sz="2400"/>
            </a:b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на муниципальном уров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0253f"/>
                </a:solidFill>
                <a:latin typeface="Tahoma"/>
                <a:ea typeface="Tahoma"/>
              </a:rPr>
              <a:t>«Больше всего меня радует то, что, получив помощь от меня, люди начинают помогать други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Tahoma"/>
                <a:ea typeface="Tahoma"/>
              </a:rPr>
              <a:t>	</a:t>
            </a:r>
            <a:r>
              <a:rPr b="0" lang="ru-RU" sz="2000" spc="-1" strike="noStrike">
                <a:solidFill>
                  <a:srgbClr val="10253f"/>
                </a:solidFill>
                <a:latin typeface="Tahoma"/>
                <a:ea typeface="Tahoma"/>
              </a:rPr>
              <a:t>	</a:t>
            </a:r>
            <a:r>
              <a:rPr b="0" lang="ru-RU" sz="2000" spc="-1" strike="noStrike">
                <a:solidFill>
                  <a:srgbClr val="10253f"/>
                </a:solidFill>
                <a:latin typeface="Tahoma"/>
                <a:ea typeface="Tahoma"/>
              </a:rPr>
              <a:t>	</a:t>
            </a:r>
            <a:r>
              <a:rPr b="0" lang="ru-RU" sz="2000" spc="-1" strike="noStrike">
                <a:solidFill>
                  <a:srgbClr val="10253f"/>
                </a:solidFill>
                <a:latin typeface="Tahoma"/>
                <a:ea typeface="Tahoma"/>
              </a:rPr>
              <a:t>	</a:t>
            </a:r>
            <a:r>
              <a:rPr b="0" i="1" lang="ru-RU" sz="2000" spc="-1" strike="noStrike">
                <a:solidFill>
                  <a:srgbClr val="10253f"/>
                </a:solidFill>
                <a:latin typeface="Tahoma"/>
                <a:ea typeface="Tahoma"/>
              </a:rPr>
              <a:t>Волонтер проекта «Все прост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64000" y="3429000"/>
            <a:ext cx="35290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1440" indent="-363600">
              <a:spcBef>
                <a:spcPts val="499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«БЫВШИЕ» ШНОР (далее – «БЫВШИЕ») в системе классификации, предложенной ФИОК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1440" indent="-363600">
              <a:spcBef>
                <a:spcPts val="499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Наглядное представление относительного количества «БЫВШИХ»</a:t>
            </a:r>
            <a:br>
              <a:rPr sz="2000"/>
            </a:b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и ШНОР в разрезе муниципалитетов и в целом по Р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1440" indent="-363600">
              <a:spcBef>
                <a:spcPts val="499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Как НЕ надо помог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1440" indent="-363600">
              <a:spcBef>
                <a:spcPts val="499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А «БЫВШИМ» это зачем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1440" indent="-363600">
              <a:spcBef>
                <a:spcPts val="499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Иной ракур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1440" indent="-363600">
              <a:spcBef>
                <a:spcPts val="499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Основные принципы партнер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1440" indent="-363600">
              <a:spcBef>
                <a:spcPts val="499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Calibri"/>
              </a:rPr>
              <a:t>Задача: организация взаимодействия между (всеми!) школами муниципалитета с целью повышения качества образования НА ОСНОВЕ ВЗАИМООБМЕНА РЕСУРС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1440" indent="-3636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440" indent="-3636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440" indent="-363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Tahoma"/>
                <a:ea typeface="Tahoma"/>
              </a:rPr>
              <a:t>Пл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11280" y="1989000"/>
          <a:ext cx="8229600" cy="2894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083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* МУНИЦИПАЛЬНЫЕ 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Е БЫЛИ В ШН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021-2024 г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БЫЛИ В ШНОР хотя бы 1 раз в 2021-2023 г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ШНОР – 2024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6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Е ПОПАЛИ В ШНОР-2024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Tahoma"/>
                <a:ea typeface="Tahoma"/>
              </a:rPr>
              <a:t>ДОПОЛНИТЕЛЬНАЯ КЛАССИФИКАЦИЯ ШНОР,</a:t>
            </a: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Tahoma"/>
                <a:ea typeface="Tahoma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!</a:t>
            </a:r>
            <a:r>
              <a:rPr b="0" lang="ru-RU" sz="2800" spc="-1" strike="noStrike">
                <a:solidFill>
                  <a:srgbClr val="10253f"/>
                </a:solidFill>
                <a:latin typeface="Tahoma"/>
                <a:ea typeface="Tahoma"/>
              </a:rPr>
              <a:t>ПРОЕКТ, ПРЕДЛОЖЕННЫЙ ФИОК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ahoma"/>
                <a:ea typeface="Tahoma"/>
              </a:rPr>
              <a:t>СООТНОШЕНИЕ «БЫВШИХ» И ШНОР В РАЗРЕЗЕ МУНИЦИПАЛИТЕТОВ И В ЦЕЛОМ ПО Р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Диаграмма 3" descr=""/>
          <p:cNvPicPr/>
          <p:nvPr/>
        </p:nvPicPr>
        <p:blipFill>
          <a:blip r:embed="rId1"/>
          <a:stretch/>
        </p:blipFill>
        <p:spPr>
          <a:xfrm>
            <a:off x="417600" y="1290600"/>
            <a:ext cx="84074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ahoma"/>
                <a:ea typeface="Tahoma"/>
              </a:rPr>
              <a:t>СООТНОШЕНИЕ «БЫВШИХ» И ШНОР В РАЗРЕЗЕ МУНИЦИПАЛИТЕТОВ И В ЦЕЛОМ ПО РК</a:t>
            </a:r>
            <a:r>
              <a:rPr b="0" lang="en-US" sz="2400" spc="-1" strike="noStrike">
                <a:solidFill>
                  <a:srgbClr val="17375e"/>
                </a:solidFill>
                <a:latin typeface="Tahoma"/>
                <a:ea typeface="Tahoma"/>
              </a:rPr>
              <a:t> (</a:t>
            </a:r>
            <a:r>
              <a:rPr b="0" lang="ru-RU" sz="2400" spc="-1" strike="noStrike">
                <a:solidFill>
                  <a:srgbClr val="17375e"/>
                </a:solidFill>
                <a:latin typeface="Tahoma"/>
                <a:ea typeface="Tahoma"/>
              </a:rPr>
              <a:t>сортирова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Диаграмма 4" descr=""/>
          <p:cNvPicPr/>
          <p:nvPr/>
        </p:nvPicPr>
        <p:blipFill>
          <a:blip r:embed="rId1"/>
          <a:stretch/>
        </p:blipFill>
        <p:spPr>
          <a:xfrm>
            <a:off x="417600" y="1506600"/>
            <a:ext cx="84074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611280" y="1844640"/>
          <a:ext cx="8229600" cy="2200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964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 МУНИЦИПАЛЬНЫЕ 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Е БЫЛИ В ШН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021-2024 г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БЫЛИ В ШНОР хотя бы 1 раз в 2021-2023 г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ШНОР – 2024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Tahoma"/>
                <a:ea typeface="Tahoma"/>
              </a:rPr>
              <a:t>ШКОЛЫ, ТРЕБУЮЩИЕ ВНИ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539640" y="1844640"/>
          <a:ext cx="8229600" cy="32130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2743200"/>
                <a:gridCol w="2743200"/>
              </a:tblGrid>
              <a:tr h="107964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 МУНИЦИПАЛЬНЫЕ 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Е БЫЛИ В ШН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021-2024 г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БЫЛИ В ШНОР хотя бы 1 раз в 2021-2023 г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«БЫВШИ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ШНОР – 2024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25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оста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едШН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Tahoma"/>
                <a:ea typeface="Tahoma"/>
              </a:rPr>
              <a:t>ШКОЛЫ, ТРЕБУЮЩИЕ 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ОСОБОГО</a:t>
            </a:r>
            <a:r>
              <a:rPr b="0" lang="ru-RU" sz="2800" spc="-1" strike="noStrike">
                <a:solidFill>
                  <a:srgbClr val="10253f"/>
                </a:solidFill>
                <a:latin typeface="Tahoma"/>
                <a:ea typeface="Tahoma"/>
              </a:rPr>
              <a:t> ВНИМАНИЯ</a:t>
            </a: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Tahoma"/>
                <a:ea typeface="Tahoma"/>
              </a:rPr>
              <a:t>(школы «зоны риска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Tahoma"/>
                <a:ea typeface="Tahoma"/>
              </a:rPr>
              <a:t>РЕСУРС «БЫВШИ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Успешные практики организации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о переходу школы в эффективный реж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«БЫВШИЕ» - потенциальные кураторы, наставники (партнеры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«ДОГНАТЬ И ПРИЧИНИТЬ ДОБРО»</a:t>
            </a: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(КАК НЕ НАДО ПОМОГА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88640"/>
            <a:ext cx="85485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НЕ помогать без запроса (за исключением экстренных случаев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НЕ делать «вместо»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НЕ брать ответственность за результаты чужого тру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5T11:15:27Z</dcterms:created>
  <dc:creator>Олег</dc:creator>
  <dc:description/>
  <dc:language>en-US</dc:language>
  <cp:lastModifiedBy>Пользователь</cp:lastModifiedBy>
  <cp:lastPrinted>2019-12-05T14:43:28Z</cp:lastPrinted>
  <dcterms:modified xsi:type="dcterms:W3CDTF">2025-03-06T07:49:22Z</dcterms:modified>
  <cp:revision>278</cp:revision>
  <dc:subject/>
  <dc:title>Презентация PowerPoint</dc:title>
</cp:coreProperties>
</file>