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871075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F4E-9457-4832-BA0A-89900991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E12-0693-49BF-96ED-BFAF54A4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BA0-0389-49EE-8098-13F1BEF0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D4D-1894-483B-A8A4-85789AC4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7CC-E188-4551-A94F-FC60F3DE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4DB8-3704-4CA9-A2D7-8E827213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8A14-FE6E-4E01-ABD6-8DCFE44B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3C15-9E0C-4B2A-B0DD-49DC0046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AC79-F258-4314-9CEC-C00FF737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CB68-15D3-4BA4-BB0A-FF960A0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F63C-4E7B-4906-9403-BF715A9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C70-7233-46B6-B9DD-FD99BC66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4C18-8311-4DAD-AAB7-4161312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A973-DD74-48D4-8DFD-E09FB47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D4E8-088D-40B5-BB1E-7F9F82F9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9881-257F-4EFC-9691-361A492E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1436-D9A7-4694-9A00-91CBB8A1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FDB-2B92-4C1F-8FF5-E6479472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64F-D683-492D-92E8-6688CD91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69B-2C85-4AC1-9D01-B15F77C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A84-7238-443C-8C9F-BF487DBC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BEC-DF16-48FA-969B-3356B5E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6E5-5E4B-43EE-8144-173A7E72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215-B9F5-4CCD-B1DB-A704602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B831-78B9-44AC-9DCE-AB625E366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6A5D-E0BB-408E-BBBF-406CB63F6D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лассификация ШНО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1463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user\Desktop\indexнне-Photoroom.png"/>
          <p:cNvPicPr/>
          <p:nvPr/>
        </p:nvPicPr>
        <p:blipFill>
          <a:blip r:embed="rId2"/>
          <a:stretch/>
        </p:blipFill>
        <p:spPr>
          <a:xfrm>
            <a:off x="971640" y="350028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24360" y="4941360"/>
            <a:ext cx="4751280" cy="12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Скорик Марина Владимировн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ведущий аналитик отдела оценки каче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образования и методического обеспечения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ГКУ РК «ИМАЦ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Calibri"/>
              </a:rPr>
              <a:t>Перечень «рисковых» школ 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Calibri"/>
              </a:rPr>
              <a:t>разных категорий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364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5720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рцающие/нестабильные»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5720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бильные»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00280" indent="-45720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ронические» ШН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697360" y="3429000"/>
            <a:ext cx="32673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390600" y="5868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ритерии попадания ОО                          в разные категории ШНО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557360"/>
          <a:ext cx="8059680" cy="4175280"/>
        </p:xfrm>
        <a:graphic>
          <a:graphicData uri="http://schemas.openxmlformats.org/drawingml/2006/table">
            <a:tbl>
              <a:tblPr/>
              <a:tblGrid>
                <a:gridCol w="3314520"/>
                <a:gridCol w="673200"/>
                <a:gridCol w="380880"/>
                <a:gridCol w="668520"/>
                <a:gridCol w="385560"/>
                <a:gridCol w="1355760"/>
                <a:gridCol w="1281240"/>
              </a:tblGrid>
              <a:tr h="988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НОР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НОР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НОР 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НОР 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первые в ШН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1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ерцающие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табильные» ШН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1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Стабильные» ШН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02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ронические» ШН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ы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«Хронические»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Объект 2" descr=""/>
          <p:cNvPicPr/>
          <p:nvPr/>
        </p:nvPicPr>
        <p:blipFill>
          <a:blip r:embed="rId1"/>
          <a:stretch/>
        </p:blipFill>
        <p:spPr>
          <a:xfrm>
            <a:off x="536400" y="884160"/>
            <a:ext cx="82425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«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Стабильные» ШНОР</a:t>
            </a: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Таблица 1" descr=""/>
          <p:cNvPicPr/>
          <p:nvPr/>
        </p:nvPicPr>
        <p:blipFill>
          <a:blip r:embed="rId1"/>
          <a:stretch/>
        </p:blipFill>
        <p:spPr>
          <a:xfrm>
            <a:off x="463680" y="1407960"/>
            <a:ext cx="81676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цающие/нестабильные» ШН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82560" y="1407960"/>
            <a:ext cx="80708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первые в ШН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981000"/>
          <a:ext cx="7705800" cy="5187960"/>
        </p:xfrm>
        <a:graphic>
          <a:graphicData uri="http://schemas.openxmlformats.org/drawingml/2006/table">
            <a:tbl>
              <a:tblPr/>
              <a:tblGrid>
                <a:gridCol w="451080"/>
                <a:gridCol w="2286000"/>
                <a:gridCol w="496872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. Керчи  «Школа № 11 имени Серго Орджоникидз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гор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роматнов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ичурин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Цветочненская СШ  имени К.С. Трубенк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Чернополь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анко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«Новокрым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«Стальновская школ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перекоп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Ильинский УВК имени Коробчука А.К.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гор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Чкаловская СОШ имени И.Т.Нерович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ма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Абрикосов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r" pos="4083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ктябрьская школа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ольне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мовская СОШ  имени кавалера ордена Мужества Дмитрия Лошатецког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Виноградов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Зернов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Митяевская С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ферополь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Широковск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мор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раснополянская СШ  имени Мещерякова Ивана Егорович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лассификация ШН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836640"/>
          <a:ext cx="8207280" cy="5845320"/>
        </p:xfrm>
        <a:graphic>
          <a:graphicData uri="http://schemas.openxmlformats.org/drawingml/2006/table">
            <a:tbl>
              <a:tblPr/>
              <a:tblGrid>
                <a:gridCol w="431640"/>
                <a:gridCol w="1800360"/>
                <a:gridCol w="576360"/>
                <a:gridCol w="1008000"/>
                <a:gridCol w="1079280"/>
                <a:gridCol w="1079640"/>
                <a:gridCol w="1081080"/>
                <a:gridCol w="503280"/>
                <a:gridCol w="647640"/>
              </a:tblGrid>
              <a:tr h="163080">
                <a:tc rowSpan="2"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rowSpan="2"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и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rowSpan="2"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О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4"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Н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ШН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цающие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биль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луш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рм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Джан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56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Евпато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ерч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перекоп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а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56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имфероп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уд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Феодо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257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Ял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хчисарай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гор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анкой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257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гвардей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перекоп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6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ин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гор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май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257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ольнен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6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ферополь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26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мор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спределение ШНОР </a:t>
            </a:r>
            <a:br>
              <a:rPr sz="4000"/>
            </a:br>
            <a:r>
              <a:rPr b="1" i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 категориям (2024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33148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1:15:27Z</dcterms:created>
  <dc:creator>Олег</dc:creator>
  <dc:description/>
  <dc:language>en-US</dc:language>
  <cp:lastModifiedBy>Любовь Васильевна</cp:lastModifiedBy>
  <cp:lastPrinted>2024-03-14T07:22:55Z</cp:lastPrinted>
  <dcterms:modified xsi:type="dcterms:W3CDTF">2025-03-04T13:18:05Z</dcterms:modified>
  <cp:revision>663</cp:revision>
  <dc:subject/>
  <dc:title>Презентация PowerPoint</dc:title>
</cp:coreProperties>
</file>