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0B3F-957C-4138-ABA3-F0478A8C99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B390-5B2A-490E-A706-75AE27E5D01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1782-82F9-4F92-BF71-960D428FB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FCE9-4936-4758-B974-E1059E21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2BD3-407D-4F39-AF50-CEF0EF828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FE1C-0381-4504-A7F7-A37467C0F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A410-BAD1-41D0-89BC-F02646791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471F-947D-4DA3-9F4A-1860EEC5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E309-CC4A-4F5F-8E83-83B6E1ED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B8C0-38E0-4D2B-BC69-00948A351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38D6-5F3C-4968-934C-B5264B29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568B-0F39-478F-BDD5-F4C0B6B0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0FF2-89F1-416F-B42B-A471ACC4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4694-100D-46EF-8BC1-DC09F30D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EA6B-E478-475C-8A35-F6EEE268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4C36-EACF-4B0F-822F-A16303E6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1369-169C-45A5-80EC-F380F9B6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B097-C25F-4446-BC6F-5565A4E7E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ED07-D793-4DA9-BEB6-3A6A0BA59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8D98-4DD7-4A98-8280-6A10AF0F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0D26-011F-4CFD-B00B-1AA9DBF7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1E30-03B9-4B1B-9183-96049039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62B5-A609-4535-B5CC-CD4A7B2A1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DD24-D9E0-4218-937E-E120FEC4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4583-D26D-4EF3-8BD7-4988208E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78A5-FCEB-4FC2-AEEE-A7E70807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2BF0-886D-4B8F-921D-858B3B0ED5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5733-7C97-46DF-AECD-FB8A383496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01120" cy="645012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3"/>
          <p:cNvSpPr/>
          <p:nvPr/>
        </p:nvSpPr>
        <p:spPr>
          <a:xfrm>
            <a:off x="755640" y="1557360"/>
            <a:ext cx="788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1"/>
          <p:cNvSpPr/>
          <p:nvPr/>
        </p:nvSpPr>
        <p:spPr>
          <a:xfrm>
            <a:off x="4489560" y="4557600"/>
            <a:ext cx="4149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Кузьменко Наталия Маратовна –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Начальник отдела оценки качества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и методического обеспеч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2"/>
          <p:cNvSpPr/>
          <p:nvPr/>
        </p:nvSpPr>
        <p:spPr>
          <a:xfrm>
            <a:off x="755640" y="1557360"/>
            <a:ext cx="756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МУНИЦИПАЛЬНАЯ СИСТЕМА ПРОФИЛАКТИК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УЧЕБНОЙ НЕУСПЕШНОСТИ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333360"/>
          <a:ext cx="8507520" cy="6278400"/>
        </p:xfrm>
        <a:graphic>
          <a:graphicData uri="http://schemas.openxmlformats.org/drawingml/2006/table">
            <a:tbl>
              <a:tblPr/>
              <a:tblGrid>
                <a:gridCol w="307800"/>
                <a:gridCol w="2009880"/>
                <a:gridCol w="6189840"/>
              </a:tblGrid>
              <a:tr h="13114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фактора негативного влия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араметры факт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70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ецифика  контингента обучающих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ичие обучающихся из многодетных семей                                 (3 и более дете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ичие обучающихся из малообеспеченных семей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ичие обучающихся из семей, в которых оба родителя являются безработны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ичие обучающихся из семей, в которых хотя бы один из родителей является инвалид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ичие обучающихся из приёмных семей, в т.ч. находящихся под опек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ичие обучающихся из семей, находящихся в социально опасном положен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ичие обучающихся, состоящих на учёте в комиссиях по делам несовершеннолетни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ичие обучающихся с ОВЗ (отклонения в интеллектуальном  и психическом развитии и д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95280" y="333360"/>
          <a:ext cx="8507520" cy="5668920"/>
        </p:xfrm>
        <a:graphic>
          <a:graphicData uri="http://schemas.openxmlformats.org/drawingml/2006/table">
            <a:tbl>
              <a:tblPr/>
              <a:tblGrid>
                <a:gridCol w="647640"/>
                <a:gridCol w="2160720"/>
                <a:gridCol w="5699160"/>
              </a:tblGrid>
              <a:tr h="13114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фактора негативного влия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араметры факт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360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достаток кадровых ресур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фицит педагогических сотрудни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фицит профильных специалистов (психолога, логопеда, тьютор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хватка других сотрудников (администрации, лаборантов, техников по обслуживанию оборудования, поваров, уборщиц, охраны, плотника и др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ичие административных работников, имеющих стаж руководящей работы менее 5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ичие вакансий административных работни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подавание административными работниками учебных предметов с нагрузкой более 18 час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грузка учителей 1,5 и более ставки и др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68360" y="476280"/>
          <a:ext cx="8505720" cy="5973840"/>
        </p:xfrm>
        <a:graphic>
          <a:graphicData uri="http://schemas.openxmlformats.org/drawingml/2006/table">
            <a:tbl>
              <a:tblPr/>
              <a:tblGrid>
                <a:gridCol w="307800"/>
                <a:gridCol w="2355840"/>
                <a:gridCol w="5842080"/>
              </a:tblGrid>
              <a:tr h="13114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фактора негативного влия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араметры факт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665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зкий уровень сформированности профессионализма и компетентности педагог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зкая предметная подготовка учителей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зкая методическая подготовка учител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зкий уровень компетенций в области индивидуализации  учебного процесса учител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зкий уровень применения современных практик и приёмов в образовательной деятельности (цифровых технологий, методик развития метапредметных компетенций, интерактивных методик и др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ичие учителей со стажем менее 5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ичие учителей, имеющих нагрузку более 30 часов    в недел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ичие учителей, имеющих нагрузку более 30 часов  в недел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68360" y="476280"/>
          <a:ext cx="8505720" cy="5973840"/>
        </p:xfrm>
        <a:graphic>
          <a:graphicData uri="http://schemas.openxmlformats.org/drawingml/2006/table">
            <a:tbl>
              <a:tblPr/>
              <a:tblGrid>
                <a:gridCol w="307800"/>
                <a:gridCol w="2355840"/>
                <a:gridCol w="5842080"/>
              </a:tblGrid>
              <a:tr h="13111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фактора негативного влия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араметры факт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662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сформирован-ность внутри-школьной системы повышения квалифик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зкая предметная подготовка учителей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зкая методическая подготовка учител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зкий уровень компетенций учител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области индивидуализации  учебного процесса Низкий уровень применения современных практик и приёмов в образовательной деятельности (цифровых технологий, методик развития метапредметных компетенций, интерактивных методик и др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ичие учителей со стажем менее 5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ичие учителей, имеющих нагрузку более 30 часов  в недел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68360" y="476280"/>
          <a:ext cx="8505720" cy="5973840"/>
        </p:xfrm>
        <a:graphic>
          <a:graphicData uri="http://schemas.openxmlformats.org/drawingml/2006/table">
            <a:tbl>
              <a:tblPr/>
              <a:tblGrid>
                <a:gridCol w="307800"/>
                <a:gridCol w="2355840"/>
                <a:gridCol w="5842080"/>
              </a:tblGrid>
              <a:tr h="13114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фактора негативного влия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араметры факт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665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ие объективной и сбалансированной ВСОК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ждение между результатами внутришкольного и внешнег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ценивания, вхождение школы в число учреждений с признаками необъективных результатов по итогам мониторинга ФИОК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ичие потенциальных медалистов, не подтвердивших образовательные результаты на ЕГЭ (необъективное оценивани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груженность или недостаточность графика внутришкольных оценочных процеду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ие внутришкольного контроля за достижением обучающимися метапредметных образовательных результатов, формированием функциональной грамот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68360" y="476280"/>
          <a:ext cx="8505720" cy="5973840"/>
        </p:xfrm>
        <a:graphic>
          <a:graphicData uri="http://schemas.openxmlformats.org/drawingml/2006/table">
            <a:tbl>
              <a:tblPr/>
              <a:tblGrid>
                <a:gridCol w="307800"/>
                <a:gridCol w="2355840"/>
                <a:gridCol w="5842080"/>
              </a:tblGrid>
              <a:tr h="13111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фактора негативного влия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араметры факт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662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сокая доля обучающихся с рисками учебной неуспеш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ичие обучающихся, которым учителя рекомендуют дополнительные занятия с целью ликвидации отставания по учебн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грамм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зкая мотивация школьников к учени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ичие обучающихся с ОВ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ичие учителей, испытывающих неуверенность при работе с обучающимися с ОВ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68360" y="476280"/>
          <a:ext cx="8505720" cy="5973840"/>
        </p:xfrm>
        <a:graphic>
          <a:graphicData uri="http://schemas.openxmlformats.org/drawingml/2006/table">
            <a:tbl>
              <a:tblPr/>
              <a:tblGrid>
                <a:gridCol w="307800"/>
                <a:gridCol w="2355840"/>
                <a:gridCol w="5842080"/>
              </a:tblGrid>
              <a:tr h="13111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фактора негативного влия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араметры факт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662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удовлетвори-тельное  качество взаимодейств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родителями (законными представителями) обучающих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абая информированность родителей о динамике образовательных достижений обучающихся и возможностях для их улучш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ксация неудовлетворённости родителей качеством обу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станцирование родителей от учебного процесса и внеурочной деятельности шко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зкая посещаемость родителями собраний и мероприятий шко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ие родительской поддержки детей в учёб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79280" y="333360"/>
          <a:ext cx="8794800" cy="6594480"/>
        </p:xfrm>
        <a:graphic>
          <a:graphicData uri="http://schemas.openxmlformats.org/drawingml/2006/table">
            <a:tbl>
              <a:tblPr/>
              <a:tblGrid>
                <a:gridCol w="319320"/>
                <a:gridCol w="2136600"/>
                <a:gridCol w="6338880"/>
              </a:tblGrid>
              <a:tr h="13111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фактора негативного влия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араметры факт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83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ие (неудовлетво-рительное состояни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тмосферы школьног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агополуч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моциональное неблагополучие в школе (конфликты между учителями; конфликты между учениками (открытые конфликты  или случаи буллинга)); Конфликты в местах общего пользования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ндализм в школе и д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фликтные отношения в педагогическом коллективе (по ответам учителе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желание учителей участвовать в различных формах профессионального разви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пространённость деструктивных педагогических практик (по ответам обучающихс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системность профориентационной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раженные проблемы с поведением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ие учёта индивидуальных возможностей обучающихся в учебном процессе и д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79280" y="333360"/>
          <a:ext cx="8794800" cy="6594480"/>
        </p:xfrm>
        <a:graphic>
          <a:graphicData uri="http://schemas.openxmlformats.org/drawingml/2006/table">
            <a:tbl>
              <a:tblPr/>
              <a:tblGrid>
                <a:gridCol w="505080"/>
                <a:gridCol w="1950840"/>
                <a:gridCol w="6338880"/>
              </a:tblGrid>
              <a:tr h="13111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фактора негативного влия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араметры факт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83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зкая эффективно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боты методическо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уж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зкий уровень квалификации специалистов УО и М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личие вакансий в УО и М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сокая доля специалистов УО и МС, имеющих стаж работы в должности менее 5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ие педагогического образования у специалистов УО и МС, курирующих учебную и воспитательную работ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ие мер социальной поддержки для молодых педагогов на уровне муниципалите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зкая привлекательность муниципалитета для проживания (экономические и экологические факторы) и д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D:\Кузьменко\Презентации\Схемы, рисунки\Business-Analyst-and-communication.jpg"/>
          <p:cNvPicPr/>
          <p:nvPr/>
        </p:nvPicPr>
        <p:blipFill>
          <a:blip r:embed="rId1"/>
          <a:stretch/>
        </p:blipFill>
        <p:spPr>
          <a:xfrm>
            <a:off x="1751040" y="1700280"/>
            <a:ext cx="5470560" cy="5157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0" y="3286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Планирование мероприятий                                                       по профилактике учебной неуспешности                          в муниципальной системе образования                                       в рамках разработанного Конструкт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Цель  </a:t>
            </a:r>
            <a:r>
              <a:rPr b="1" lang="ru-RU" sz="4000" spc="-1" strike="noStrike">
                <a:solidFill>
                  <a:srgbClr val="ffc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D:\Кузьменко\Презентации\Схемы, рисунки\imagesввуук.jpg"/>
          <p:cNvPicPr/>
          <p:nvPr/>
        </p:nvPicPr>
        <p:blipFill>
          <a:blip r:embed="rId1"/>
          <a:srcRect l="0" t="8066" r="0" b="16083"/>
          <a:stretch/>
        </p:blipFill>
        <p:spPr>
          <a:xfrm>
            <a:off x="324000" y="0"/>
            <a:ext cx="853272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324000" y="259920"/>
            <a:ext cx="84960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Calibri"/>
              </a:rPr>
              <a:t>Цель рабо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еспечение равного доступа к получению качественного общего образования для всех обучающихся независимо от места жительства, социального статуса и материального положения семей через профилактику учебной неуспешности,  внедрение стратегии поддержки образовательных организаций, демонстрирующих  низкие образовательные результа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7138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Calibri"/>
              </a:rPr>
              <a:t>1. Низкий уровень оснащения школ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000" y="764640"/>
            <a:ext cx="4040280" cy="38124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txBody>
          <a:bodyPr anchor="b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уровне муниципалите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1196640"/>
            <a:ext cx="4040280" cy="532764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ганизация грантовых конкурсов, направленных на поддержку школьных инициати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готовка документации для участия в федеральной программе «Модернизация школьных систем образования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казание организационной помощи в установлении сетевого партнёрства образовательных организаций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3280" y="764640"/>
            <a:ext cx="4042080" cy="38124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txBody>
          <a:bodyPr anchor="b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уровне школ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4720" y="1196640"/>
            <a:ext cx="4041720" cy="532764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влечение внебюджет-ных средств за счёт оказания платных дополнительных образовательных услуг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готовка документации для участия в федеральной программе «Модернизация школьных систем образования», проекте «Современная школа» национального проекта «Образование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ьзование ресурсов сетевых партнёров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87850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Calibri"/>
              </a:rPr>
              <a:t>2. Специфика контингента обучающихся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4040280" cy="3826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txBody>
          <a:bodyPr anchor="b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уровне муниципалите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6840" y="1483920"/>
            <a:ext cx="4040280" cy="50403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координация деятельности службы, ответственной за организацию воспитатель-ной работы, социальных и других сопредельных служб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ганизация постоянно действующих семинаров-совещаний для вышеназванных специалистов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сультативная помощь для специалистов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3280" y="907560"/>
            <a:ext cx="4042080" cy="3826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txBody>
          <a:bodyPr anchor="b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уровне школ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43280" y="1483920"/>
            <a:ext cx="4042080" cy="50403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обеспечение условий для адаптации детей, находящихся в трудно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жизненной ситуац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работка и реализация адаптированных програм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координация деятельности администрации ОО, советника директора по воспитательной работе, педагога-психолога, социального педагога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87850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Calibri"/>
              </a:rPr>
              <a:t>3. Недостатки кадровых ресурсов школ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125000"/>
            <a:ext cx="4040280" cy="38124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txBody>
          <a:bodyPr anchor="b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уровне муниципалите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8000" y="1699920"/>
            <a:ext cx="4040280" cy="47530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ганизация целевого обуч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ведение методических мероприятий по вопросу открытия педагогических класс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личие системы работы с резервом управленческих кадров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3280" y="1125000"/>
            <a:ext cx="4042080" cy="38124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txBody>
          <a:bodyPr anchor="b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уровне школ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43280" y="1699920"/>
            <a:ext cx="4042080" cy="47530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становление партнёрских отношений с педагогически-ми вузами для привлечения старшекурсников к преподаванию в школ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крытие педагогических класс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ирование кадрового резерва управленческих кадров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878508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Calibri"/>
              </a:rPr>
              <a:t>4. Низкий уровень сформированности </a:t>
            </a:r>
            <a:br>
              <a:rPr sz="3600"/>
            </a:br>
            <a:r>
              <a:rPr b="1" lang="ru-RU" sz="3600" spc="-1" strike="noStrike">
                <a:solidFill>
                  <a:srgbClr val="254061"/>
                </a:solidFill>
                <a:latin typeface="Calibri"/>
              </a:rPr>
              <a:t>профессионализма и компетенций педагог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4040280" cy="38124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txBody>
          <a:bodyPr anchor="b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уровне муниципалите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2133360"/>
            <a:ext cx="4259160" cy="43909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супервизия в рамках деятельности муниципальной тьюторской службы (организация сопровождения педработников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ддержка профессио-нального развития педагогов на уровне муниципалите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матические мониторинги по различным направлениям  деятельности ОО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00360" y="1628280"/>
            <a:ext cx="4041720" cy="38124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txBody>
          <a:bodyPr anchor="b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уровне школ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932000" y="2133360"/>
            <a:ext cx="3754440" cy="43909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поративное обуче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сполнение профессио-нальных дефицитов педагогов на основе диагностики (ИОМ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упреждение профессионального выгорания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878508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Calibri"/>
              </a:rPr>
              <a:t>5. Несформированность внутришкольной системы повышения квалифик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4039920" cy="3808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txBody>
          <a:bodyPr anchor="b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уровне муниципалите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4000" y="1916280"/>
            <a:ext cx="4039920" cy="46814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мониторинг и контроль наличия в каждой ОО муниципалитета эффективно работающей внутришколь-ной системы повышения квалификации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3280" y="1413000"/>
            <a:ext cx="4042080" cy="3808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txBody>
          <a:bodyPr anchor="b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уровне школ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644720" y="1915920"/>
            <a:ext cx="4041720" cy="46083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ние в ОО условий для непрерывного профессио-нального развития педработников(профессио-нальная переподготовка, повышение квалификации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работка и реализация ИОМ педагог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ие системы поддержки молодых специалистов, наставни-чества (менторства)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7640" y="115920"/>
            <a:ext cx="87850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Calibri"/>
              </a:rPr>
              <a:t>6. Отсутствие объективной и сбалансированной ВСОК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4039920" cy="3808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txBody>
          <a:bodyPr anchor="b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уровне муниципалите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6840" y="1700280"/>
            <a:ext cx="3251160" cy="49687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контроль объективности оценивания образовательных результа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нтроль подготовки обучающихся к ГИА (проведение пробных экзаменов)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3280" y="1197000"/>
            <a:ext cx="4042080" cy="3808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txBody>
          <a:bodyPr anchor="b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уровне школ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924360" y="1700280"/>
            <a:ext cx="4968720" cy="49687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ведение графиков школьных оценочных процедур и фонда оценочных средств в соответствие с региональными и федеральными требования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дминистративный контроль   объективности оценивания обра-зовательных достижений обуч-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еспечение открытости ВСОКО:  информирование обуч-ся и роди-телей о критериях оценивания и программных требованиях к результатам обучения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640" y="115920"/>
            <a:ext cx="878508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Calibri"/>
              </a:rPr>
              <a:t>7. Высокая доля обучающихся                                              с рисками учебной неуспеш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4040280" cy="3826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txBody>
          <a:bodyPr anchor="b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уровне муниципалите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1773360"/>
            <a:ext cx="4040280" cy="4751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ганизация межшкольных занятий в тьюторском консультационном пункт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ганизация деятельности муниципальных МО педагогов-психологов, логопедов, дефектологов, социальных педагог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действие повышению квалификации учителей по вопросу обучения детей с ОВЗ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1640" y="1267920"/>
            <a:ext cx="4041720" cy="3826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txBody>
          <a:bodyPr anchor="b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уровне школ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44720" y="1773360"/>
            <a:ext cx="4041720" cy="4751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ганизация систематического сбора информации о текущей успеваемости и посещаемости обучающих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здание современной образовательной сред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ганизация повышения квалификации педагогов по вопросам обучения детей с ОВЗ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8. Неудовлетворительное качество взаимодействия с родителями (законными представителями) обучающих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4040280" cy="3808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txBody>
          <a:bodyPr anchor="b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уровне муниципалите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6840" y="2060640"/>
            <a:ext cx="4040280" cy="4464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ниторинг качества информа-ционно-разъяснительной работ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ведение муниципальных родительских собраний с привлечением медийных личностей, компетентных в вопросах образования и воспитания, узких специалистов, имеющих высокий уровень квалификации (психологов, логопедов, дефектологов, педиатров, неврологов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ведение родительских лекториев и д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3280" y="1557360"/>
            <a:ext cx="4042080" cy="3808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txBody>
          <a:bodyPr anchor="b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уровне школ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44720" y="2060640"/>
            <a:ext cx="4041720" cy="446400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формирование обуч-ся и родителей о критериях оценива-ния и программных требованиях к результатам обуч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рганизация работы по взаимодействию с родительским комитето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троль проведения/ посещаемости родительских собраний (классных и общешкольных), круглых столов, опросов по удовлетворённости родителями  качеством образования и д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8785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Calibri"/>
              </a:rPr>
              <a:t>9. Неудовлетворительная атмосфера </a:t>
            </a:r>
            <a:br>
              <a:rPr sz="3600"/>
            </a:br>
            <a:r>
              <a:rPr b="1" lang="ru-RU" sz="3600" spc="-1" strike="noStrike">
                <a:solidFill>
                  <a:srgbClr val="254061"/>
                </a:solidFill>
                <a:latin typeface="Calibri"/>
              </a:rPr>
              <a:t>школьного благополуч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4040280" cy="3826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txBody>
          <a:bodyPr anchor="b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уровне муниципалите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6840" y="1773360"/>
            <a:ext cx="4040280" cy="4751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ганизация муниципальных методических мероприятий по вопросу объективности оценивания образователь-ных достиже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ганизация участия педагогов в региональных и федеральных мероприятиях по вопросу объективности оценивания образователь-ных достижений и др.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1640" y="1267920"/>
            <a:ext cx="4041720" cy="3826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txBody>
          <a:bodyPr anchor="b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уровне школ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644720" y="1773360"/>
            <a:ext cx="4041720" cy="475128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обеспечение вовлечённости обучающихся во внеурочную деятельнос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ьзование методик, техник, инструментов формирующего оцени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рганизация психолого-педагогического сопровождения адаптации обучающихся в учебном процессе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87850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Calibri"/>
              </a:rPr>
              <a:t>10. Низкая эффективность работы </a:t>
            </a:r>
            <a:br>
              <a:rPr sz="3600"/>
            </a:br>
            <a:r>
              <a:rPr b="1" lang="ru-RU" sz="3600" spc="-1" strike="noStrike">
                <a:solidFill>
                  <a:srgbClr val="254061"/>
                </a:solidFill>
                <a:latin typeface="Calibri"/>
              </a:rPr>
              <a:t>методической службы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4040280" cy="3826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txBody>
          <a:bodyPr anchor="b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уровне муниципалите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6840" y="1773000"/>
            <a:ext cx="4040280" cy="48956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регулярное повышение квалификации (формальное, неформальное, информаль-ное) специалистами УО и МС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ирование кадрового резерва специалистов УО и МС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учение, в том числе корпоративное, начинающих специалистов УО и МС, стажировки в других муниципалитетах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1640" y="1267920"/>
            <a:ext cx="4041720" cy="38268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txBody>
          <a:bodyPr anchor="b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уровне школ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644720" y="1773000"/>
            <a:ext cx="4041720" cy="48956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регулярное повышение квалификации (формальное, неформальное, информаль-ное) работниками О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ирование кадрового резерва управленческих команд О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учение, в том числе корпоративное, молодых и малоопытных  специалис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стажировки в других ОО, муниципалитетах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4061"/>
                </a:solidFill>
                <a:latin typeface="Calibri"/>
              </a:rPr>
              <a:t>Определение профилакт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D:\Кузьменко\Презентации\Схемы, рисунки\4c250861be3a44165a20e24280d10b0f.jpg"/>
          <p:cNvPicPr/>
          <p:nvPr/>
        </p:nvPicPr>
        <p:blipFill>
          <a:blip r:embed="rId1"/>
          <a:srcRect l="0" t="0" r="0" b="8833"/>
          <a:stretch/>
        </p:blipFill>
        <p:spPr>
          <a:xfrm>
            <a:off x="581040" y="2133720"/>
            <a:ext cx="8296200" cy="4724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д педагогической профилактикой понимают систему превентивных мер, применяемых для выявления и нейтрализации причин и условий возникновения и развития явлений, негативно сказывающихся на качестве образ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56908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Calibri"/>
              </a:rPr>
              <a:t>Ожидаемые результаты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5" descr="D:\Кузьменко\Презентации\Схемы, рисунки\index.jpg"/>
          <p:cNvPicPr/>
          <p:nvPr/>
        </p:nvPicPr>
        <p:blipFill>
          <a:blip r:embed="rId1"/>
          <a:srcRect l="0" t="8161" r="0" b="9622"/>
          <a:stretch/>
        </p:blipFill>
        <p:spPr>
          <a:xfrm>
            <a:off x="4500720" y="3813120"/>
            <a:ext cx="4319280" cy="3025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395280" y="1197000"/>
            <a:ext cx="8453520" cy="55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ышение качества образования для всех категорий  обучающихс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дание прецедентов региональных                               успешных практик повышения качества                                  образования и эффективности деятельности школ;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пространение эффективного муниципального опыта и опыта                           эффективного управления О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4" descr="D:\Кузьменко\Презентации\Схемы, рисунки\photowords_ru_19455.jpg"/>
          <p:cNvPicPr/>
          <p:nvPr/>
        </p:nvPicPr>
        <p:blipFill>
          <a:blip r:embed="rId1"/>
          <a:srcRect l="-1810" t="26890" r="786" b="23715"/>
          <a:stretch/>
        </p:blipFill>
        <p:spPr>
          <a:xfrm>
            <a:off x="-163440" y="0"/>
            <a:ext cx="9307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4061"/>
                </a:solidFill>
                <a:latin typeface="Calibri"/>
              </a:rPr>
              <a:t>Этапы пед.профилакт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197000"/>
          <a:ext cx="8229600" cy="5400720"/>
        </p:xfrm>
        <a:graphic>
          <a:graphicData uri="http://schemas.openxmlformats.org/drawingml/2006/table">
            <a:tbl>
              <a:tblPr/>
              <a:tblGrid>
                <a:gridCol w="442800"/>
                <a:gridCol w="2735280"/>
                <a:gridCol w="1657440"/>
                <a:gridCol w="3394080"/>
              </a:tblGrid>
              <a:tr h="663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одержание эта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ункции управ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т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944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агнос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учение документации, экспертная оценка, наблюдение, опрос, анкетирование и д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5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явление прич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1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ределение путей и средств профилак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анир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 (в т.ч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WOT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сравнение, моделирование, актуализация успешного опыта, диаграмма Га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30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ализация профилактических мероприят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изация, координ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беждение, информирование, переучивание, практика, упражнение, стимулирование, пример, принуж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6348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ценка эффективности профилак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спертиза, прогнозирование, определение рисков, повторение, анализ, самоанали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рекция недостат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4061"/>
                </a:solidFill>
                <a:latin typeface="Calibri"/>
              </a:rPr>
              <a:t>Неуспеваемость/неуспеш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6640"/>
            <a:ext cx="4114800" cy="525636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успеваемость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ставляет собой ситуативное или устойчивое отставание школьника в освоении учебного материала по одному или нескольким предметам програм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716000" y="1125360"/>
            <a:ext cx="3970440" cy="532800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еуспешнос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это нежелание или неспособность ученика выполнить требования образовательной программы, потеря интереса к школьной жизни; педагогическая запущенность, трудновоспитуем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4061"/>
                </a:solidFill>
                <a:latin typeface="Calibri"/>
              </a:rPr>
              <a:t>Результаты входного ауди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268280"/>
          <a:ext cx="8229600" cy="4969080"/>
        </p:xfrm>
        <a:graphic>
          <a:graphicData uri="http://schemas.openxmlformats.org/drawingml/2006/table">
            <a:tbl>
              <a:tblPr/>
              <a:tblGrid>
                <a:gridCol w="442800"/>
                <a:gridCol w="1871640"/>
                <a:gridCol w="1656000"/>
                <a:gridCol w="1584360"/>
                <a:gridCol w="2674800"/>
              </a:tblGrid>
              <a:tr h="39672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актор негативного влияния (риск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еречень ОО, в работе которых проявляются негативные факто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31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факт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рамет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парамет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униципальная дорожная карта                    по профилактике учебной неуспешности (образец формы документа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68360" y="2133720"/>
          <a:ext cx="8229600" cy="3598920"/>
        </p:xfrm>
        <a:graphic>
          <a:graphicData uri="http://schemas.openxmlformats.org/drawingml/2006/table">
            <a:tbl>
              <a:tblPr/>
              <a:tblGrid>
                <a:gridCol w="442800"/>
                <a:gridCol w="1656000"/>
                <a:gridCol w="936360"/>
                <a:gridCol w="792360"/>
                <a:gridCol w="934920"/>
                <a:gridCol w="865080"/>
                <a:gridCol w="863640"/>
                <a:gridCol w="1738440"/>
              </a:tblGrid>
              <a:tr h="1373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роприя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ор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д параме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тинг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сто прове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ата прове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ветстве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55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5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7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6" descr="D:\Кузьменко\Презентации\Схемы, рисунки\statistics_business@2x.png"/>
          <p:cNvPicPr/>
          <p:nvPr/>
        </p:nvPicPr>
        <p:blipFill>
          <a:blip r:embed="rId1"/>
          <a:srcRect l="0" t="8740" r="0" b="0"/>
          <a:stretch/>
        </p:blipFill>
        <p:spPr>
          <a:xfrm>
            <a:off x="558720" y="0"/>
            <a:ext cx="7900920" cy="4799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374760" y="4005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Конструктор                                                     формирования системы                                            программных мероприятий                                                       по профилактике учебной неуспешности                          в муниципальной системе образ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333360"/>
          <a:ext cx="8229600" cy="5973840"/>
        </p:xfrm>
        <a:graphic>
          <a:graphicData uri="http://schemas.openxmlformats.org/drawingml/2006/table">
            <a:tbl>
              <a:tblPr/>
              <a:tblGrid>
                <a:gridCol w="298440"/>
                <a:gridCol w="1944720"/>
                <a:gridCol w="5986440"/>
              </a:tblGrid>
              <a:tr h="1311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фактора негативного влия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араметры факт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665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зкий уровень оснащения шко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хватка или плохое состояние учебных материал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хватка компьютеров для учи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хватка компьютеров для обучающих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охое качество интернет-соединения/ недоступность подклю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хватка или плохое состояние помещений школы (выраженные потребности в ремонте помещений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абая оснащенность помещений школы (проблемы с отоплением, освещением, отсутствие необходимого  оборудования специализированных кабине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сутствие помещений/возможностей для проведения групповых занятий, мини-конференций, организации межпредметных занятий и д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5T11:15:27Z</dcterms:created>
  <dc:creator>Олег</dc:creator>
  <dc:description/>
  <dc:language>en-US</dc:language>
  <cp:lastModifiedBy>Пользователь</cp:lastModifiedBy>
  <cp:lastPrinted>2019-12-03T08:14:23Z</cp:lastPrinted>
  <dcterms:modified xsi:type="dcterms:W3CDTF">2024-11-06T06:36:46Z</dcterms:modified>
  <cp:revision>347</cp:revision>
  <dc:subject/>
  <dc:title>Презентация PowerPoint</dc:title>
</cp:coreProperties>
</file>