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54230-AEDB-4553-80BD-F4891861C9B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04507-6E41-4044-9E9C-D1CF30EFA55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FE7AD-D3E2-4D18-ABCA-9845BD2EBA7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9002E-7330-4862-B9CC-744001DA385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20090-7514-4C2A-9E05-338A8503CAA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3AC9A-60CC-4B8C-940C-D9F957EFAEA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C2467-3D0E-481D-9160-81018018C6A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72C9E-5D73-4BAA-B607-1A82FC6668E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C3475-93B0-4B92-9EBB-FA6F8C8B085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A84EC-65BA-4170-8D52-96166BF2E95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06905-E3BB-4F92-B400-2B7F3231B54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BD30F-265F-4012-B2A5-C6196262039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33FFC-E02D-4927-9498-FE9289614A0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D3138-70D7-4B0F-98FD-DE0D8F12DD1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9D032-BD90-49C7-B2F1-0B77349E773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9EF6C-D3CE-4329-92F2-B7B02CE7724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91CC9-BC2F-4F30-8E9B-096C7ADD53F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FF9D8-F5C6-4623-9F21-5F85DB86CDD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303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74696-29B1-4887-A469-05505EE0AB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1AB3-5FB3-47F2-90AE-0681E4CDD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B475-3574-4A0E-BA4E-A0ACF6AA1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294C-34AF-4ED5-AE5E-F21B944D2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D51A-881F-467E-8C7D-6EF012FCD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57DC0-1F73-4487-A0DE-E0EA90D77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B1702-8A26-4736-A07F-CDB8F82E6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A9279-DDD2-441F-9B95-8148C4989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59770-CA80-4F2B-9F7B-73D239195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1DFF5-6909-48C4-924D-DAFB00425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46DCF-CB80-4B72-8454-FFF569982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85119-91A7-48CC-856E-CE41E521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13A5-D4CB-47D1-B8C4-F18FACE33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6E2E2-3E3E-49F3-964E-8F716FA6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420FE-9E48-4CA6-8A0D-5AD7C275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0AA96-2D6E-4F47-AB75-667B8A840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46444-6952-4E6F-B322-8DB801DF9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45E9A-A4BD-455F-8D3C-92285744F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B1B1-8663-42F4-AF53-542A3ECEB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86BA-FAE7-4A14-AE31-C79F32725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2F8A-9669-4F8F-8F03-698D65005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8811-46C3-47DA-A7E8-A8F9EBD2A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C905-0C64-4961-9FBE-E0A701DC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1E36-8041-4D2B-A658-B9A349CC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1A63-BF58-448B-A3CF-6562D442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2D92-5B3D-4368-9DBE-8C75805E19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857BF-65D2-4D99-8C62-02E7026677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289080" y="260280"/>
            <a:ext cx="8600760" cy="645012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3"/>
          <p:cNvSpPr/>
          <p:nvPr/>
        </p:nvSpPr>
        <p:spPr>
          <a:xfrm>
            <a:off x="552600" y="1646280"/>
            <a:ext cx="8099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Calibri"/>
              </a:rPr>
              <a:t>Об идентификации школ с низкими образовательными результатам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Calibri"/>
              </a:rPr>
              <a:t>по итогам обработки Показателей ОК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54061"/>
                </a:solidFill>
                <a:latin typeface="Calibri"/>
              </a:rPr>
              <a:t>за 2023-2024 учебный г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рямоугольник 1"/>
          <p:cNvSpPr/>
          <p:nvPr/>
        </p:nvSpPr>
        <p:spPr>
          <a:xfrm>
            <a:off x="4500720" y="4508640"/>
            <a:ext cx="4119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Гаврили Светлана Алексеевна –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ведущий аналитик отде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оценки качества образ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и методического обеспеч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3320" y="333360"/>
            <a:ext cx="81579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10253f"/>
                </a:solidFill>
                <a:latin typeface="Tahoma"/>
                <a:ea typeface="Tahoma"/>
              </a:rPr>
              <a:t>5. Ходатайства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01200" y="1268280"/>
            <a:ext cx="8147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 algn="just">
              <a:lnSpc>
                <a:spcPct val="100000"/>
              </a:lnSpc>
              <a:spcBef>
                <a:spcPts val="799"/>
              </a:spcBef>
              <a:buClr>
                <a:srgbClr val="10253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10253f"/>
                </a:solidFill>
                <a:uFillTx/>
                <a:latin typeface="Tahoma"/>
                <a:ea typeface="Tahoma"/>
              </a:rPr>
              <a:t>Аргумент</a:t>
            </a:r>
            <a:r>
              <a:rPr b="0" lang="ru-RU" sz="3200" spc="-1" strike="noStrike">
                <a:solidFill>
                  <a:srgbClr val="10253f"/>
                </a:solidFill>
                <a:latin typeface="Tahoma"/>
                <a:ea typeface="Tahoma"/>
              </a:rPr>
              <a:t> 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Tahoma"/>
                <a:ea typeface="Tahoma"/>
              </a:rPr>
              <a:t>вычислительные ошиб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Calibri"/>
              </a:rPr>
              <a:t>Положительное решение </a:t>
            </a: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принято в случае преодоления границы «красной зоны» при пересчете итоговых показател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0253f"/>
                </a:solidFill>
                <a:latin typeface="Calibri"/>
              </a:rPr>
              <a:t>! Пересчет свода по РК НЕ ОСУЩЕСТВЛЯЛСЯ</a:t>
            </a: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4" descr="C:\Users\Пользователь\Desktop\подготовка к семинару 5 ноября 2024\презентация\картинки для презентации\ошибки в вычислениях1-Photoroom.png"/>
          <p:cNvPicPr/>
          <p:nvPr/>
        </p:nvPicPr>
        <p:blipFill>
          <a:blip r:embed="rId1"/>
          <a:stretch/>
        </p:blipFill>
        <p:spPr>
          <a:xfrm>
            <a:off x="5003640" y="628560"/>
            <a:ext cx="3618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Tahoma"/>
                <a:ea typeface="Tahoma"/>
              </a:rPr>
              <a:t>5. Ходатай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39280" y="1268280"/>
            <a:ext cx="8147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2. </a:t>
            </a:r>
            <a:r>
              <a:rPr b="0" lang="ru-RU" sz="2800" spc="-1" strike="noStrike" u="sng">
                <a:solidFill>
                  <a:srgbClr val="10253f"/>
                </a:solidFill>
                <a:uFillTx/>
                <a:latin typeface="Calibri"/>
              </a:rPr>
              <a:t>Аргумент</a:t>
            </a:r>
            <a:r>
              <a:rPr b="0" lang="ru-RU" sz="2800" spc="-1" strike="noStrike">
                <a:solidFill>
                  <a:srgbClr val="10253f"/>
                </a:solidFill>
                <a:latin typeface="Calibri"/>
              </a:rPr>
              <a:t>  - отсутствие в ОО уровня образования и/или выпускников в 2023-2024 учебном год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68360" y="2276640"/>
          <a:ext cx="8351640" cy="4378320"/>
        </p:xfrm>
        <a:graphic>
          <a:graphicData uri="http://schemas.openxmlformats.org/drawingml/2006/table">
            <a:tbl>
              <a:tblPr/>
              <a:tblGrid>
                <a:gridCol w="612720"/>
                <a:gridCol w="1011240"/>
                <a:gridCol w="1698480"/>
                <a:gridCol w="1735200"/>
                <a:gridCol w="1378080"/>
                <a:gridCol w="1915920"/>
              </a:tblGrid>
              <a:tr h="480960">
                <a:tc row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Класт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Характеристики класте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Аккредит. уровни образ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Реализуемые ОО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Общее к-во обуч. (чел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Территориальная принадлеж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НО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НО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не учитывает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городские поселения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сельская мест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НО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ОО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НО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ОО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не учитывает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городские поселения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сельская мест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3.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НО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ОО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СО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НО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ОО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не учитывает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городские поселения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сельская мест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8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Calibri"/>
                          <a:ea typeface="Calibri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Calibri"/>
                          <a:ea typeface="Calibri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Calibri"/>
                          <a:ea typeface="Calibri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Calibri"/>
                          <a:ea typeface="Calibri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Calibri"/>
                          <a:ea typeface="Calibri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Calibri"/>
                          <a:ea typeface="Calibri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Rectangle 1"/>
          <p:cNvSpPr/>
          <p:nvPr/>
        </p:nvSpPr>
        <p:spPr>
          <a:xfrm>
            <a:off x="5991480" y="15300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Tahoma"/>
                <a:ea typeface="Tahoma"/>
              </a:rPr>
              <a:t>6. «Оранжевая зона» - 2024</a:t>
            </a:r>
            <a:br>
              <a:rPr sz="4400"/>
            </a:br>
            <a:r>
              <a:rPr b="0" lang="ru-RU" sz="4400" spc="-1" strike="noStrike">
                <a:solidFill>
                  <a:srgbClr val="10253f"/>
                </a:solidFill>
                <a:latin typeface="Tahoma"/>
                <a:ea typeface="Tahoma"/>
              </a:rPr>
              <a:t>2 источни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23640" y="1534680"/>
            <a:ext cx="4103640" cy="117324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txBody>
          <a:bodyPr anchor="ctr">
            <a:normAutofit fontScale="69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бработанные Показател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23640" y="2174400"/>
            <a:ext cx="4173480" cy="21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школы с итогами,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близкими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к границе «красной зоны»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46c0a"/>
                </a:solidFill>
                <a:latin typeface="Calibri"/>
              </a:rPr>
              <a:t>!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В некоторых кластерах «оранжевая зона»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отсутствуе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32360" y="1557000"/>
            <a:ext cx="3968640" cy="115092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Ходатайст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579640" y="2852640"/>
            <a:ext cx="404172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школы с положительными решениям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54061"/>
                </a:solidFill>
                <a:latin typeface="Tahoma"/>
                <a:ea typeface="Tahoma"/>
              </a:rPr>
              <a:t>!7. Региональный</a:t>
            </a:r>
            <a:br>
              <a:rPr sz="4400"/>
            </a:br>
            <a:r>
              <a:rPr b="1" lang="ru-RU" sz="4400" spc="-1" strike="noStrike">
                <a:solidFill>
                  <a:srgbClr val="254061"/>
                </a:solidFill>
                <a:latin typeface="Tahoma"/>
                <a:ea typeface="Tahoma"/>
              </a:rPr>
              <a:t> перечень ШНОР - 2024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9280" y="2099880"/>
            <a:ext cx="424836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Calibri"/>
              </a:rPr>
              <a:t>Динамика количества школ в перечн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Tahoma"/>
                <a:ea typeface="Tahoma"/>
              </a:rPr>
              <a:t>2019 г. – 10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Tahoma"/>
                <a:ea typeface="Tahoma"/>
              </a:rPr>
              <a:t>2021 г. – 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Tahoma"/>
                <a:ea typeface="Tahoma"/>
              </a:rPr>
              <a:t>2022 г. – 3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Tahoma"/>
                <a:ea typeface="Tahoma"/>
              </a:rPr>
              <a:t>2023 г. – 3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54061"/>
                </a:solidFill>
                <a:latin typeface="Tahoma"/>
                <a:ea typeface="Tahoma"/>
              </a:rPr>
              <a:t>2024 г. – 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4" descr="C:\Users\Пользователь\Desktop\подготовка к семинару 5 ноября 2024\презентация\картинки для презентации\достижение перестигли-Photoroom.png"/>
          <p:cNvPicPr/>
          <p:nvPr/>
        </p:nvPicPr>
        <p:blipFill>
          <a:blip r:embed="rId1"/>
          <a:stretch/>
        </p:blipFill>
        <p:spPr>
          <a:xfrm>
            <a:off x="4643280" y="1557360"/>
            <a:ext cx="439272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54061"/>
                </a:solidFill>
                <a:latin typeface="Tahoma"/>
                <a:ea typeface="Tahoma"/>
              </a:rPr>
              <a:t>7. Региональный</a:t>
            </a:r>
            <a:br>
              <a:rPr sz="3600"/>
            </a:br>
            <a:r>
              <a:rPr b="1" lang="ru-RU" sz="3600" spc="-1" strike="noStrike">
                <a:solidFill>
                  <a:srgbClr val="254061"/>
                </a:solidFill>
                <a:latin typeface="Tahoma"/>
                <a:ea typeface="Tahoma"/>
              </a:rPr>
              <a:t> перечень ШНОР – 2024</a:t>
            </a:r>
            <a:br>
              <a:rPr sz="3600"/>
            </a:br>
            <a:r>
              <a:rPr b="1" lang="ru-RU" sz="3200" spc="-1" strike="noStrike">
                <a:solidFill>
                  <a:srgbClr val="254061"/>
                </a:solidFill>
                <a:latin typeface="Tahoma"/>
                <a:ea typeface="Tahoma"/>
              </a:rPr>
              <a:t>объективность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24000" y="1628640"/>
          <a:ext cx="8569080" cy="4681800"/>
        </p:xfrm>
        <a:graphic>
          <a:graphicData uri="http://schemas.openxmlformats.org/drawingml/2006/table">
            <a:tbl>
              <a:tblPr/>
              <a:tblGrid>
                <a:gridCol w="515880"/>
                <a:gridCol w="1758960"/>
                <a:gridCol w="2262240"/>
                <a:gridCol w="1249200"/>
                <a:gridCol w="982800"/>
                <a:gridCol w="936360"/>
                <a:gridCol w="863640"/>
              </a:tblGrid>
              <a:tr h="522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Школа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2.1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21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2.2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6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Школа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2.1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21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2.2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2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Школа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3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2.1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21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2.2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2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Школа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2.1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2.2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6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Школа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2.1.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2.2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6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Школа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2.1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2.2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4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Школа 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2.1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2.2. 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2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Школа 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21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2.1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2.2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0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Школа 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21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2.1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2.2.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4978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Tahoma"/>
                <a:ea typeface="Tahoma"/>
              </a:rPr>
              <a:t>7. Региональный</a:t>
            </a:r>
            <a:br>
              <a:rPr sz="4000"/>
            </a:br>
            <a:r>
              <a:rPr b="1" lang="ru-RU" sz="4000" spc="-1" strike="noStrike">
                <a:solidFill>
                  <a:srgbClr val="254061"/>
                </a:solidFill>
                <a:latin typeface="Tahoma"/>
                <a:ea typeface="Tahoma"/>
              </a:rPr>
              <a:t> перечень ШНОР - 202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54061"/>
                </a:solidFill>
                <a:latin typeface="Tahoma"/>
                <a:ea typeface="Tahoma"/>
              </a:rPr>
              <a:t>объективн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buClr>
                <a:srgbClr val="2540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11280" y="2276640"/>
          <a:ext cx="8208720" cy="4093920"/>
        </p:xfrm>
        <a:graphic>
          <a:graphicData uri="http://schemas.openxmlformats.org/drawingml/2006/table">
            <a:tbl>
              <a:tblPr/>
              <a:tblGrid>
                <a:gridCol w="995400"/>
                <a:gridCol w="3211560"/>
                <a:gridCol w="1425240"/>
                <a:gridCol w="1324080"/>
                <a:gridCol w="1252440"/>
              </a:tblGrid>
              <a:tr h="36612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п/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Причина отнесения школ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к категории ШНО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Кол-во ОО в РП ШНО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2022 г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2023 г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2024 г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10253f"/>
                          </a:solidFill>
                          <a:uFillTx/>
                          <a:latin typeface="Times New Roman"/>
                          <a:ea typeface="Calibri"/>
                        </a:rPr>
                        <a:t>только</a:t>
                      </a:r>
                      <a:r>
                        <a:rPr b="0" lang="ru-RU" sz="24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 по итогам 2.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 u="sng">
                          <a:solidFill>
                            <a:srgbClr val="10253f"/>
                          </a:solidFill>
                          <a:uFillTx/>
                          <a:latin typeface="Times New Roman"/>
                          <a:ea typeface="Calibri"/>
                        </a:rPr>
                        <a:t>только</a:t>
                      </a:r>
                      <a:r>
                        <a:rPr b="0" lang="ru-RU" sz="24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 по итогам 2.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 grid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Итого условно «необъективных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33 (89,2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29 (90,6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19 (82,6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7318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условно «объективных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ВСЕГО в РП ШНО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10253f"/>
                          </a:solidFill>
                          <a:latin typeface="Times New Roman"/>
                          <a:ea typeface="Calibri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229600" cy="128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Tahoma"/>
                <a:ea typeface="Tahoma"/>
              </a:rPr>
              <a:t>7. Региональный</a:t>
            </a:r>
            <a:br>
              <a:rPr sz="4000"/>
            </a:br>
            <a:r>
              <a:rPr b="1" lang="ru-RU" sz="4000" spc="-1" strike="noStrike">
                <a:solidFill>
                  <a:srgbClr val="254061"/>
                </a:solidFill>
                <a:latin typeface="Tahoma"/>
                <a:ea typeface="Tahoma"/>
              </a:rPr>
              <a:t> перечень ШНОР - 2024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Диаграмма 4" descr=""/>
          <p:cNvPicPr/>
          <p:nvPr/>
        </p:nvPicPr>
        <p:blipFill>
          <a:blip r:embed="rId1"/>
          <a:stretch/>
        </p:blipFill>
        <p:spPr>
          <a:xfrm>
            <a:off x="536400" y="1481040"/>
            <a:ext cx="821088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54061"/>
                </a:solidFill>
                <a:latin typeface="Tahoma"/>
                <a:ea typeface="Tahoma"/>
              </a:rPr>
              <a:t>7. Региональный</a:t>
            </a:r>
            <a:br>
              <a:rPr sz="3600"/>
            </a:br>
            <a:r>
              <a:rPr b="1" lang="ru-RU" sz="3600" spc="-1" strike="noStrike">
                <a:solidFill>
                  <a:srgbClr val="254061"/>
                </a:solidFill>
                <a:latin typeface="Tahoma"/>
                <a:ea typeface="Tahoma"/>
              </a:rPr>
              <a:t> перечень ШНОР - 2024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79280" y="1197000"/>
          <a:ext cx="8856720" cy="5583240"/>
        </p:xfrm>
        <a:graphic>
          <a:graphicData uri="http://schemas.openxmlformats.org/drawingml/2006/table">
            <a:tbl>
              <a:tblPr/>
              <a:tblGrid>
                <a:gridCol w="534960"/>
                <a:gridCol w="1841760"/>
                <a:gridCol w="2303280"/>
                <a:gridCol w="868320"/>
                <a:gridCol w="854280"/>
                <a:gridCol w="782640"/>
                <a:gridCol w="1671480"/>
              </a:tblGrid>
              <a:tr h="468360"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4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Муниципалит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Наименование О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класт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Подразде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с маркером Н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Примеч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7880"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Бахчисарай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Маловиднен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3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2.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2.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7880"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Джанкой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Целинновская шко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2.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2.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РП ШНОР-20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2360"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Джанкой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Пахаревская школа-детский са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2.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2.2.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2360"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Джанкой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Соленоозерная школа имени Степана Куц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2.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2.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РП ШНОР-2022, 20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82640"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Керч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Школа №22 им. Героев Аджимушкайских каменоломе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2.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2.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Керч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Школа №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3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2.1.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2.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2360"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Керч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Школа №28 им. героев Эльтиге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3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2.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2.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РП ШНОР-20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4000"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Красногвардей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Некрасовская шко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2.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2.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РП ШНОР-20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200"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Красногвардей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Миролюбовская шко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2.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2.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РП ШНОР-2022, 20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0800"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Красногвардей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Климовская шко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2.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2.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РП ШНОР -20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7000"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Красногвардей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Ровновская шко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3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2.1.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2.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РП ШНОР-20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Красногвардей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Пятихатская шко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3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2.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1920" rIns="6192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2.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54061"/>
                </a:solidFill>
                <a:latin typeface="Tahoma"/>
                <a:ea typeface="Tahoma"/>
              </a:rPr>
              <a:t>7. Региональный</a:t>
            </a:r>
            <a:br>
              <a:rPr sz="3600"/>
            </a:br>
            <a:r>
              <a:rPr b="1" lang="ru-RU" sz="3600" spc="-1" strike="noStrike">
                <a:solidFill>
                  <a:srgbClr val="254061"/>
                </a:solidFill>
                <a:latin typeface="Tahoma"/>
                <a:ea typeface="Tahoma"/>
              </a:rPr>
              <a:t> перечень ШНОР - 2024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79280" y="1484280"/>
          <a:ext cx="8785440" cy="5303880"/>
        </p:xfrm>
        <a:graphic>
          <a:graphicData uri="http://schemas.openxmlformats.org/drawingml/2006/table">
            <a:tbl>
              <a:tblPr/>
              <a:tblGrid>
                <a:gridCol w="515880"/>
                <a:gridCol w="1758960"/>
                <a:gridCol w="2632320"/>
                <a:gridCol w="879480"/>
                <a:gridCol w="753840"/>
                <a:gridCol w="755640"/>
                <a:gridCol w="1489320"/>
              </a:tblGrid>
              <a:tr h="5223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Лени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Челядиновская О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2.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2.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РП ШНОР-20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0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Ленин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Калиновская СО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2.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2.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23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Первомай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Крестьяновская шко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3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2.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2.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РП ШНОР-20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23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Симферопо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СОШ №42 им. Эшрефа Шемьи-зад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2.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2.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0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Симферопо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СОШ №5 им.85-го АС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2.1.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2.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763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Симферополь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Добровская школа-гимназия им. Я. М. Слонимск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2.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2.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38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Симферополь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Новоандреевская школа им. В. А. Осип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2.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2.2.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9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Симферополь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Родниковская школа-гимназ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2.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2.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26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Симферополь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Кольчугинская  школа№ 1 им. Авраамова Г.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2.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2.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9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Черномор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Краснополянская СШ им. Мещерякова И.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3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2.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2.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9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Черноморск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Кировская средняя школа им.Кухтина Ф.П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3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2.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2.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0253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54061"/>
                </a:solidFill>
                <a:latin typeface="Tahoma"/>
                <a:ea typeface="Tahoma"/>
              </a:rPr>
              <a:t>7. РП ШНОР. УГОЛ ЗРЕНИЯ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745956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23640" y="1483920"/>
            <a:ext cx="6048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51"/>
              </a:spcBef>
              <a:tabLst>
                <a:tab algn="l" pos="0"/>
                <a:tab algn="l" pos="36036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1. </a:t>
            </a: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П</a:t>
            </a:r>
            <a:r>
              <a:rPr b="1" lang="ru-RU" sz="3000" spc="-1" strike="noStrike">
                <a:solidFill>
                  <a:srgbClr val="17375e"/>
                </a:solidFill>
                <a:latin typeface="Calibri"/>
              </a:rPr>
              <a:t>резентовать</a:t>
            </a:r>
            <a:r>
              <a:rPr b="0" lang="ru-RU" sz="3000" spc="-1" strike="noStrike">
                <a:solidFill>
                  <a:srgbClr val="17375e"/>
                </a:solidFill>
                <a:latin typeface="Calibri"/>
              </a:rPr>
              <a:t> итоговые  материалы по результатам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17375e"/>
              </a:buClr>
              <a:buFont typeface="Wingdings" charset="2"/>
              <a:buChar char=""/>
              <a:tabLst>
                <a:tab algn="l" pos="36036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обработки Показателей ОКО-24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17375e"/>
              </a:buClr>
              <a:buFont typeface="Wingdings" charset="2"/>
              <a:buChar char=""/>
              <a:tabLst>
                <a:tab algn="l" pos="36036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идентификации ШНОР на региональном уровн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36036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36036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7375e"/>
                </a:solidFill>
                <a:latin typeface="Calibri"/>
              </a:rPr>
              <a:t>2.         </a:t>
            </a:r>
            <a:r>
              <a:rPr b="1" lang="ru-RU" sz="3000" spc="-1" strike="noStrike">
                <a:solidFill>
                  <a:srgbClr val="17375e"/>
                </a:solidFill>
                <a:latin typeface="Calibri"/>
              </a:rPr>
              <a:t>Прояснит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36036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7375e"/>
                </a:solidFill>
                <a:latin typeface="Calibri"/>
              </a:rPr>
              <a:t>имеющиеся и возможные вопрос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36036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17375e"/>
                </a:solidFill>
                <a:latin typeface="Calibri"/>
              </a:rPr>
              <a:t>по заявленной теме</a:t>
            </a:r>
            <a:r>
              <a:rPr b="0" lang="ru-RU" sz="3000" spc="-1" strike="noStrike">
                <a:solidFill>
                  <a:srgbClr val="254061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54061"/>
                </a:solidFill>
                <a:latin typeface="Tahoma"/>
                <a:ea typeface="Tahoma"/>
              </a:rPr>
              <a:t>Це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6" descr=""/>
          <p:cNvPicPr/>
          <p:nvPr/>
        </p:nvPicPr>
        <p:blipFill>
          <a:blip r:embed="rId1"/>
          <a:stretch/>
        </p:blipFill>
        <p:spPr>
          <a:xfrm>
            <a:off x="6372360" y="1052640"/>
            <a:ext cx="2477880" cy="2738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C:\Users\Пользователь\Desktop\подготовка к семинару 5 ноября 2024\презентация\картинки для презентации\вопросы3\вопросы без фона!.png"/>
          <p:cNvPicPr/>
          <p:nvPr/>
        </p:nvPicPr>
        <p:blipFill>
          <a:blip r:embed="rId2"/>
          <a:stretch/>
        </p:blipFill>
        <p:spPr>
          <a:xfrm>
            <a:off x="5796000" y="3933720"/>
            <a:ext cx="305424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78920" y="1413000"/>
            <a:ext cx="87138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09400" indent="-340560">
              <a:spcBef>
                <a:spcPts val="700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Структура и методика обработки Показателей (кратко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09400" indent="-340560">
              <a:spcBef>
                <a:spcPts val="700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Показатели, исключенные из обработки в 2024 год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09400" indent="-340560">
              <a:spcBef>
                <a:spcPts val="700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Выборочная проверка значений ряда показателей, корректировка на региональном уровн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09400" indent="-340560">
              <a:spcBef>
                <a:spcPts val="700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«Нелогичные» результаты маркиров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09400" indent="-340560">
              <a:spcBef>
                <a:spcPts val="700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Судьба ходатайств об исключении из «красной зоны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09400" indent="-340560">
              <a:spcBef>
                <a:spcPts val="700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Формирование «оранжевой зоны» в 2024 год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09400" indent="-340560">
              <a:spcBef>
                <a:spcPts val="700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Региональный перечень ШНОР-2024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09400" indent="-340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17375e"/>
                </a:solidFill>
                <a:latin typeface="Tahoma"/>
                <a:ea typeface="Tahoma"/>
              </a:rPr>
              <a:t>План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C:\Users\Пользователь\Desktop\подготовка к семинару 5 ноября 2024\презентация\картинки для презентации\план\план4-Photoroom без фона.png"/>
          <p:cNvPicPr/>
          <p:nvPr/>
        </p:nvPicPr>
        <p:blipFill>
          <a:blip r:embed="rId1"/>
          <a:stretch/>
        </p:blipFill>
        <p:spPr>
          <a:xfrm>
            <a:off x="5724360" y="4437000"/>
            <a:ext cx="375768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3600" spc="-1" strike="noStrike">
                <a:solidFill>
                  <a:srgbClr val="254061"/>
                </a:solidFill>
                <a:latin typeface="Tahoma"/>
                <a:ea typeface="Tahoma"/>
              </a:rPr>
              <a:t>1. </a:t>
            </a:r>
            <a:r>
              <a:rPr b="1" lang="ru-RU" sz="3600" spc="-1" strike="noStrike">
                <a:solidFill>
                  <a:srgbClr val="17375e"/>
                </a:solidFill>
                <a:latin typeface="Tahoma"/>
                <a:ea typeface="Tahoma"/>
              </a:rPr>
              <a:t>Структура Показателей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50920" y="1052640"/>
          <a:ext cx="8785080" cy="5881680"/>
        </p:xfrm>
        <a:graphic>
          <a:graphicData uri="http://schemas.openxmlformats.org/drawingml/2006/table">
            <a:tbl>
              <a:tblPr/>
              <a:tblGrid>
                <a:gridCol w="861840"/>
                <a:gridCol w="6904080"/>
                <a:gridCol w="1019160"/>
              </a:tblGrid>
              <a:tr h="38556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17375e"/>
                          </a:solidFill>
                          <a:latin typeface="Tahoma"/>
                          <a:ea typeface="Tahoma"/>
                        </a:rPr>
                        <a:t>Раздел I. Качество условий образовательного процесс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375e"/>
                          </a:solidFill>
                          <a:latin typeface="Tahoma"/>
                          <a:ea typeface="Tahoma"/>
                        </a:rPr>
                        <a:t>1.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7375e"/>
                          </a:solidFill>
                          <a:latin typeface="Tahoma"/>
                          <a:ea typeface="Tahoma"/>
                        </a:rPr>
                        <a:t>Учебно-методическое и материально-техническое обеспеч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Times New Roman"/>
                          <a:ea typeface="Times New Roman"/>
                        </a:rPr>
                        <a:t>К=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51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375e"/>
                          </a:solidFill>
                          <a:latin typeface="Tahoma"/>
                          <a:ea typeface="Tahoma"/>
                        </a:rPr>
                        <a:t>1.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7375e"/>
                          </a:solidFill>
                          <a:latin typeface="Tahoma"/>
                          <a:ea typeface="Tahoma"/>
                        </a:rPr>
                        <a:t>Кадровое обеспеч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Times New Roman"/>
                          <a:ea typeface="Times New Roman"/>
                        </a:rPr>
                        <a:t>К=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01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375e"/>
                          </a:solidFill>
                          <a:latin typeface="Tahoma"/>
                          <a:ea typeface="Tahoma"/>
                        </a:rPr>
                        <a:t>1.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7375e"/>
                          </a:solidFill>
                          <a:latin typeface="Tahoma"/>
                          <a:ea typeface="Tahoma"/>
                        </a:rPr>
                        <a:t>Условия для удовлетворения образовательных потребност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Times New Roman"/>
                          <a:ea typeface="Times New Roman"/>
                        </a:rPr>
                        <a:t>К=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7076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17375e"/>
                          </a:solidFill>
                          <a:latin typeface="Tahoma"/>
                          <a:ea typeface="Tahoma"/>
                        </a:rPr>
                        <a:t>Раздел II. Качество результатов образовательного процесс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Tahoma"/>
                          <a:ea typeface="Tahoma"/>
                        </a:rPr>
                        <a:t>2.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7375e"/>
                          </a:solidFill>
                          <a:latin typeface="Tahoma"/>
                          <a:ea typeface="Tahoma"/>
                        </a:rPr>
                        <a:t>Предметные результаты обучения (внутреннее оценивание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Times New Roman"/>
                          <a:ea typeface="Times New Roman"/>
                        </a:rPr>
                        <a:t>К=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01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Tahoma"/>
                          <a:ea typeface="Tahoma"/>
                        </a:rPr>
                        <a:t>2.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7375e"/>
                          </a:solidFill>
                          <a:latin typeface="Tahoma"/>
                          <a:ea typeface="Tahoma"/>
                        </a:rPr>
                        <a:t>Результаты ГИА, ВПР и других оценочных процедур (внешнее оценивание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Times New Roman"/>
                          <a:ea typeface="Times New Roman"/>
                        </a:rPr>
                        <a:t>К=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052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375e"/>
                          </a:solidFill>
                          <a:latin typeface="Tahoma"/>
                          <a:ea typeface="Tahoma"/>
                        </a:rPr>
                        <a:t>2.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7375e"/>
                          </a:solidFill>
                          <a:latin typeface="Tahoma"/>
                          <a:ea typeface="Tahoma"/>
                        </a:rPr>
                        <a:t>Сопоставление результатов внутреннего оценивания и итогов оценочных процедур (изучение объективности предметного оценивания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Times New Roman"/>
                          <a:ea typeface="Times New Roman"/>
                        </a:rPr>
                        <a:t>К=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375e"/>
                          </a:solidFill>
                          <a:latin typeface="Tahoma"/>
                          <a:ea typeface="Tahoma"/>
                        </a:rPr>
                        <a:t>2.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7375e"/>
                          </a:solidFill>
                          <a:latin typeface="Tahoma"/>
                          <a:ea typeface="Tahoma"/>
                        </a:rPr>
                        <a:t>Результаты надзорных и контрольных мероприятий, изучение объективности на уровне муниципалите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Times New Roman"/>
                          <a:ea typeface="Times New Roman"/>
                        </a:rPr>
                        <a:t>К=-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7375e"/>
                          </a:solidFill>
                          <a:latin typeface="Tahoma"/>
                          <a:ea typeface="Tahoma"/>
                        </a:rPr>
                        <a:t>2.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17375e"/>
                          </a:solidFill>
                          <a:latin typeface="Tahoma"/>
                          <a:ea typeface="Tahoma"/>
                        </a:rPr>
                        <a:t>Результаты региональных (Республика Крым) мониторинговых исследова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7375e"/>
                          </a:solidFill>
                          <a:latin typeface="Times New Roman"/>
                          <a:ea typeface="Times New Roman"/>
                        </a:rPr>
                        <a:t>К=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8556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17375e"/>
                          </a:solidFill>
                          <a:latin typeface="Tahoma"/>
                          <a:ea typeface="Tahoma"/>
                        </a:rPr>
                        <a:t>Справочная информаци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bee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13000"/>
            <a:ext cx="84247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0880" indent="-478080">
              <a:spcBef>
                <a:spcPts val="700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Проверка отчетов ОУО, обработка данных                         по каждому муниципалитет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60880" indent="-478080">
              <a:spcBef>
                <a:spcPts val="700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Кластеризац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60880" indent="-478080">
              <a:spcBef>
                <a:spcPts val="700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Подведение итогов по каждому кластеру: сортировка по отклонению от среднег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60880" indent="-478080">
              <a:spcBef>
                <a:spcPts val="700"/>
              </a:spcBef>
              <a:buClr>
                <a:srgbClr val="17375e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Маркировка («светофор» + «оранжевая» зон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60880" indent="-478080" algn="just">
              <a:spcBef>
                <a:spcPts val="601"/>
              </a:spcBef>
              <a:buClr>
                <a:srgbClr val="17375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7375e"/>
                </a:solidFill>
                <a:latin typeface="Calibri"/>
              </a:rPr>
              <a:t>Сбор отчетов ОУО в 2024 году в 2 этапа: апрель и июль (условия и образовательные результаты соответственно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60880" indent="-478080" algn="just">
              <a:spcBef>
                <a:spcPts val="601"/>
              </a:spcBef>
              <a:buClr>
                <a:srgbClr val="17375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7375e"/>
                </a:solidFill>
                <a:latin typeface="Calibri"/>
              </a:rPr>
              <a:t>На основе обработанных Показателей с учетом ходатайств об исключении из «красной зоны» (региональный уровень) производится </a:t>
            </a:r>
            <a:r>
              <a:rPr b="1" i="1" lang="ru-RU" sz="2400" spc="-1" strike="noStrike">
                <a:solidFill>
                  <a:srgbClr val="17375e"/>
                </a:solidFill>
                <a:latin typeface="Calibri"/>
              </a:rPr>
              <a:t>идентификация ШНОР</a:t>
            </a:r>
            <a:r>
              <a:rPr b="0" i="1" lang="ru-RU" sz="2400" spc="-1" strike="noStrike">
                <a:solidFill>
                  <a:srgbClr val="17375e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Tahoma"/>
                <a:ea typeface="Tahoma"/>
              </a:rPr>
              <a:t>1. Метод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23640" y="1699920"/>
            <a:ext cx="64227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75e"/>
                </a:solidFill>
                <a:latin typeface="Calibri"/>
              </a:rPr>
              <a:t>Показатели, характеризующи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17375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… </a:t>
            </a: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метапредметные результа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2.1.3.1. НОО;</a:t>
            </a: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 2.1.3.2. ОО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17375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… </a:t>
            </a: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результаты прохождения ГИА претендентами на получение аттестата об ООО (СОО) с отличием, а также на награждение медалью "За особые успехи в учении" I или II степени (2.3.5.-2.3.9., расчет на региональном уровне на основе данных справочной информаци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44100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Tahoma"/>
                <a:ea typeface="Tahoma"/>
              </a:rPr>
              <a:t>2. Исключены из обработ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6" descr="C:\Users\Пользователь\Desktop\подготовка к семинару 5 ноября 2024\презентация\картинки для презентации\отказ исключение-Photoroom-Photoroom.png"/>
          <p:cNvPicPr/>
          <p:nvPr/>
        </p:nvPicPr>
        <p:blipFill>
          <a:blip r:embed="rId1"/>
          <a:stretch/>
        </p:blipFill>
        <p:spPr>
          <a:xfrm>
            <a:off x="6732720" y="1700280"/>
            <a:ext cx="22431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24000" y="1196640"/>
            <a:ext cx="8640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spcBef>
                <a:spcPts val="700"/>
              </a:spcBef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1. Показатели, характеризующие результат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17375e"/>
              </a:buClr>
              <a:buFont typeface="Wingdings" charset="2"/>
              <a:buChar char=""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ВсОШ (региональный, федеральный этапы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17375e"/>
              </a:buClr>
              <a:buFont typeface="Wingdings" charset="2"/>
              <a:buChar char=""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итогового сочине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17375e"/>
              </a:buClr>
              <a:buFont typeface="Wingdings" charset="2"/>
              <a:buChar char=""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ГИА по профильной математик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17375e"/>
                </a:solidFill>
                <a:latin typeface="Calibri"/>
              </a:rPr>
              <a:t>2.  Показатели, которые не берутся в расчет -  отсутствие уровня образования или выпускников («пустые» ячейк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Calibri"/>
              </a:rPr>
              <a:t>Источники информаци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75"/>
              </a:spcBef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ru-RU" sz="2700" spc="-1" strike="noStrike">
                <a:solidFill>
                  <a:srgbClr val="17375e"/>
                </a:solidFill>
                <a:latin typeface="Calibri"/>
              </a:rPr>
              <a:t>Приказы МОНМ РК, протоколы заседаний жюр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75"/>
              </a:spcBef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ru-RU" sz="2700" spc="-1" strike="noStrike">
                <a:solidFill>
                  <a:srgbClr val="17375e"/>
                </a:solidFill>
                <a:latin typeface="Calibri"/>
              </a:rPr>
              <a:t>по предметам ВсОШ (КРИППО)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75"/>
              </a:spcBef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ru-RU" sz="2700" spc="-1" strike="noStrike">
                <a:solidFill>
                  <a:srgbClr val="17375e"/>
                </a:solidFill>
                <a:latin typeface="Calibri"/>
              </a:rPr>
              <a:t>статистика по результатам ГИА (ЦОМКО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75"/>
              </a:spcBef>
              <a:buClr>
                <a:srgbClr val="17375e"/>
              </a:buClr>
              <a:buFont typeface="Wingdings" charset="2"/>
              <a:buChar char=""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5690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7375e"/>
                </a:solidFill>
                <a:latin typeface="Tahoma"/>
                <a:ea typeface="Tahoma"/>
              </a:rPr>
              <a:t>3. Проверка, корректиров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527040" y="1916280"/>
          <a:ext cx="8292960" cy="4537080"/>
        </p:xfrm>
        <a:graphic>
          <a:graphicData uri="http://schemas.openxmlformats.org/drawingml/2006/table">
            <a:tbl>
              <a:tblPr/>
              <a:tblGrid>
                <a:gridCol w="585720"/>
                <a:gridCol w="1346400"/>
                <a:gridCol w="1180800"/>
                <a:gridCol w="765360"/>
                <a:gridCol w="923760"/>
                <a:gridCol w="844560"/>
                <a:gridCol w="887400"/>
                <a:gridCol w="889200"/>
                <a:gridCol w="869760"/>
              </a:tblGrid>
              <a:tr h="8492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№ 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п/п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ОО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Кластер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…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…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…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среднее 2.1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итог 2.1.</a:t>
                      </a:r>
                      <a:br>
                        <a:rPr sz="1700"/>
                      </a:b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К=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519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ШКОЛА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,9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,9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,2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519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ШКОЛА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,5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,9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,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8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19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ШКОЛА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,6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,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19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ШКОЛ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,6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,8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,0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520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ШКОЛА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,6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,9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,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519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ШКОЛА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,7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,9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,2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716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ШКОЛА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,6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,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84978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4040"/>
                </a:solidFill>
                <a:latin typeface="Tahoma"/>
                <a:ea typeface="Tahoma"/>
              </a:rPr>
              <a:t>           </a:t>
            </a:r>
            <a:r>
              <a:rPr b="1" lang="ru-RU" sz="4400" spc="-1" strike="noStrike">
                <a:solidFill>
                  <a:srgbClr val="10253f"/>
                </a:solidFill>
                <a:latin typeface="Tahoma"/>
                <a:ea typeface="Tahoma"/>
              </a:rPr>
              <a:t>4. «Нелогичные»</a:t>
            </a:r>
            <a:br>
              <a:rPr sz="4400"/>
            </a:br>
            <a:r>
              <a:rPr b="1" lang="ru-RU" sz="4400" spc="-1" strike="noStrike">
                <a:solidFill>
                  <a:srgbClr val="10253f"/>
                </a:solidFill>
                <a:latin typeface="Tahoma"/>
                <a:ea typeface="Tahoma"/>
              </a:rPr>
              <a:t>  результаты маркиров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95" descr="C:\Users\Пользователь\Desktop\подготовка к семинару 5 ноября 2024\презентация\картинки для презентации\вопрос ответ-Photoroom.png"/>
          <p:cNvPicPr/>
          <p:nvPr/>
        </p:nvPicPr>
        <p:blipFill>
          <a:blip r:embed="rId1"/>
          <a:stretch/>
        </p:blipFill>
        <p:spPr>
          <a:xfrm>
            <a:off x="7020000" y="122400"/>
            <a:ext cx="2287440" cy="12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Tahoma"/>
                <a:ea typeface="Tahoma"/>
              </a:rPr>
              <a:t>5. Ходатайства*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836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0253f"/>
                </a:solidFill>
                <a:latin typeface="Calibri"/>
              </a:rPr>
              <a:t>Приведенные аргументы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10253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Вычислительные ошиб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10253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Отсутствие в ОО уровня образования и/или выпускников в 2024 год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10253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Особенности континген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10253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0253f"/>
                </a:solidFill>
                <a:latin typeface="Calibri"/>
              </a:rPr>
              <a:t>Друго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0253f"/>
                </a:solidFill>
                <a:latin typeface="Calibri"/>
              </a:rPr>
              <a:t>* В соответствии с п. 16 Порядка муниципальным ОУО предоставляется право на аргументированные предложения по коррекции перечня ШНОР муниципалитета (исключение из перечня и !расширение  перечня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5T11:15:27Z</dcterms:created>
  <dc:creator>Олег</dc:creator>
  <dc:description/>
  <dc:language>en-US</dc:language>
  <cp:lastModifiedBy>Пользователь</cp:lastModifiedBy>
  <cp:lastPrinted>2019-12-05T14:43:28Z</cp:lastPrinted>
  <dcterms:modified xsi:type="dcterms:W3CDTF">2024-11-06T07:22:49Z</dcterms:modified>
  <cp:revision>275</cp:revision>
  <dc:subject/>
  <dc:title>Презентация PowerPoint</dc:title>
</cp:coreProperties>
</file>